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26.gif" ContentType="image/gif"/>
  <Override PartName="/ppt/media/image20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4.png" ContentType="image/png"/>
  <Override PartName="/ppt/media/image19.gif" ContentType="image/gif"/>
  <Override PartName="/ppt/media/image4.wmf" ContentType="image/x-wmf"/>
  <Override PartName="/ppt/media/image17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331C-EB52-401A-B609-69ACEFF1B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DE05-13B6-4160-9C1E-6E8D49B9D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567-3EFF-4B85-BE85-21706426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FCA-BAA7-4E3D-8C0C-1A4FD429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5421-94EC-4768-8588-CDCCDF6B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1A3-1D04-426A-8254-B25BF61E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EB6E-28BE-4D92-B661-650C219E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F743-E243-43B1-9457-8292C00D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5DCA-F43A-42EE-BECC-91980FDD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5D8F-2CD8-41DA-BE25-34B2AF6D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624C-BF84-4C0B-9D51-5C6FED7F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7D4A-E0BF-4137-8F10-E3CCDE70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35C4-0884-473B-A5FF-2DA830BB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984-F511-4666-B1BD-E7BA2E39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58B4-792D-4718-B431-14666468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A333-8CAF-43D2-8EE2-C70EFBB2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2F00-4995-42CC-A250-21EB3E55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78BF-E5F8-4399-8FF6-86F18FF3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CC45-2649-4D76-8F22-4C2B8BDE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DD156-305E-4724-85F1-05312053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40C64-096F-45F3-A53C-92939C31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36D98-57C3-4E31-AE38-842767AC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0BCC4-88A9-43F3-B948-9398150B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129E8-7053-4869-A992-3D66E7B5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296-F34D-4E69-B028-0CA9A285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1459A-AFB3-44D3-B7E2-4567FE1D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4797B-0073-43A5-A1E6-F494DB4B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2306A-3116-4CCC-8423-BF7E0C5F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9ACA6-ABF4-48A2-B715-743AF9F3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5D52-FE4F-4212-B7B2-1A1641CA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1F7D0-AFD0-4761-8FE9-73C29382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DB043-4E3E-471D-9731-454D5809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A3EA0-CCCB-4B69-AA89-BDF7525E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3C0F1-CDC6-4ECE-9B66-C13B6A8C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63500-37ED-4B57-890A-3DD0A987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46F7-C919-4F7A-B35E-E83DD52E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F0B7F-C6DF-4A6B-B5E7-C6E1FEEA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D5656-AE6F-4944-9F39-808B8E00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ED069-2708-474A-86B2-92640D7F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4446C-A80B-43A3-899D-FE9D804D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66AC3-D611-482C-B30A-17B9589A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3782B-B44B-4B7B-B464-FA00BEDB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28F96-AFB5-4E90-9052-88A239A5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11BC5-32DA-4618-A128-2F06E1AC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0E14A-F293-441B-A6DF-9FFDA46E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2049F-9D2E-4CA7-A316-14A407FC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F5E-5A2A-4DFB-8B67-5FB875CE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8BBB58-33B2-420B-A502-785DBF00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4AA684-5E7A-489D-BB72-B94504F3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489D7B-D1A0-4307-ADB6-36C31C48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B116E-C8D2-4898-A09A-514BFDAC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4D146-F2D9-410E-B085-0A0C127B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426D8-C0C6-439D-A04A-1B40BCC8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109E62-8555-484D-A4A0-09AF9643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6FD15-0B12-4F46-8823-60D62C34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E17BE-FC4A-43CF-9C4A-B79C2DB3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DDE93-BDD1-42A7-895F-7465397A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F038-13BA-4CA7-A2D5-E3722377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82A4B-26BB-45CF-B818-B936F25A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FC4FD-7310-41A8-AD86-9630693F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3C26B-2527-4DAB-907D-F34724A4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12092-7D52-4D75-A965-0097ECAD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5F5D9-6CB6-4E05-8B43-B831D131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D221E-EFC0-4FBB-9692-631CD410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645E1-33AA-4A90-B2A7-058AC55F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61C3F-06E3-4E6B-9351-1BF198BE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D8449-A8BE-4000-81C8-72CBFA6A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817D7-C327-4035-9EDD-07B6219B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F92-4F8E-4D3B-9D11-23B8E83F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8AF02-C127-407F-982E-825DECDA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AB449-B604-4EA6-83FD-5655F7A0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B427B-09D4-4762-AB63-ABF789F4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F34-0D6B-47A4-8D01-5B5E11A4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5B4-13A4-4208-8504-ABC60982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24B7-E77F-44F5-B2A8-5FC41BECEB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3B86-0F6B-47A0-BA84-666F070B8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115C-259D-45E0-BF70-BA4428D6A1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4934-4869-4C90-B517-9DC764BBF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43FA-C4C9-4B51-8485-96A622B0448B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4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B2E8-4149-43A0-93A1-5B98BF5EAF0D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8.gi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image.baidu.com/i?ct=503316480&amp;z=0&amp;tn=baiduimagedetail&amp;word=%E4%DF%D2%C7%D5%D5&#428;&amp;in=26650&amp;cl=2&amp;cm=1&amp;sc=0&amp;lm=-1&amp;pn=7&amp;rn=1&amp;di=1637764240&amp;ln=2000&amp;fr=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1403280" y="836640"/>
            <a:ext cx="6840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宋体"/>
              </a:rPr>
              <a:t>第</a:t>
            </a:r>
            <a:r>
              <a:rPr b="1" lang="en-US" sz="6000" spc="-1" strike="noStrike">
                <a:solidFill>
                  <a:srgbClr val="cc0000"/>
                </a:solidFill>
                <a:latin typeface="宋体"/>
              </a:rPr>
              <a:t>14</a:t>
            </a:r>
            <a:r>
              <a:rPr b="1" lang="zh-CN" sz="6000" spc="-1" strike="noStrike">
                <a:solidFill>
                  <a:srgbClr val="cc0000"/>
                </a:solidFill>
                <a:latin typeface="宋体"/>
              </a:rPr>
              <a:t>课 难忘九一八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324000" y="1368000"/>
            <a:ext cx="7848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中华民族生死存亡的危急关头，中国共产党提出什么主张和要求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539640" y="333360"/>
            <a:ext cx="8172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自学课本第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7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页最后两段内容，思考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179280" y="2923200"/>
            <a:ext cx="846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国民党内部的一些爱国将领如张学良、杨虎城等，他们又是什么态度，什么反应呢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0" y="2349360"/>
            <a:ext cx="914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建立抗日民族统一战线，要求停止内战，一致抗日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250920" y="4235400"/>
            <a:ext cx="8642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接受了中国共产党的主张，停止向红军进攻，并多次要求蒋介石联共抗日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250920" y="501336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蒋介石什么态度？张杨是怎样做的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468360" y="5805360"/>
            <a:ext cx="7524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坚决不抵抗。发动西安事变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gif024"/>
          <p:cNvPicPr/>
          <p:nvPr/>
        </p:nvPicPr>
        <p:blipFill>
          <a:blip r:embed="rId1"/>
          <a:stretch/>
        </p:blipFill>
        <p:spPr>
          <a:xfrm>
            <a:off x="7236000" y="5516640"/>
            <a:ext cx="1726920" cy="172728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3"/>
          <p:cNvSpPr/>
          <p:nvPr/>
        </p:nvSpPr>
        <p:spPr>
          <a:xfrm>
            <a:off x="7639200" y="6021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黑体"/>
              </a:rPr>
              <a:t>学生活动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611280" y="278136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目的、时间、地点、发动者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6" descr="yan"/>
          <p:cNvPicPr/>
          <p:nvPr/>
        </p:nvPicPr>
        <p:blipFill>
          <a:blip r:embed="rId2"/>
          <a:stretch/>
        </p:blipFill>
        <p:spPr>
          <a:xfrm>
            <a:off x="7524720" y="404640"/>
            <a:ext cx="1087560" cy="1067040"/>
          </a:xfrm>
          <a:prstGeom prst="rect">
            <a:avLst/>
          </a:prstGeom>
          <a:ln w="0">
            <a:noFill/>
          </a:ln>
        </p:spPr>
      </p:pic>
      <p:sp>
        <p:nvSpPr>
          <p:cNvPr id="381" name="WordArt 8"/>
          <p:cNvSpPr txBox="1"/>
          <p:nvPr/>
        </p:nvSpPr>
        <p:spPr>
          <a:xfrm>
            <a:off x="1116000" y="1484280"/>
            <a:ext cx="259236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快速总结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82" name="Picture 9" descr="u=632467426,240214638&amp;fm=0&amp;gp=-18"/>
          <p:cNvPicPr/>
          <p:nvPr/>
        </p:nvPicPr>
        <p:blipFill>
          <a:blip r:embed="rId3"/>
          <a:stretch/>
        </p:blipFill>
        <p:spPr>
          <a:xfrm>
            <a:off x="1332000" y="3860640"/>
            <a:ext cx="2044440" cy="2376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u=1008480513,1338147466&amp;fm=0&amp;gp=-38"/>
          <p:cNvPicPr/>
          <p:nvPr/>
        </p:nvPicPr>
        <p:blipFill>
          <a:blip r:embed="rId4"/>
          <a:stretch/>
        </p:blipFill>
        <p:spPr>
          <a:xfrm>
            <a:off x="4427640" y="3860640"/>
            <a:ext cx="2030400" cy="2303640"/>
          </a:xfrm>
          <a:prstGeom prst="rect">
            <a:avLst/>
          </a:prstGeom>
          <a:ln w="0">
            <a:noFill/>
          </a:ln>
        </p:spPr>
      </p:pic>
      <p:sp>
        <p:nvSpPr>
          <p:cNvPr id="384" name="WordArt 2"/>
          <p:cNvSpPr txBox="1"/>
          <p:nvPr/>
        </p:nvSpPr>
        <p:spPr>
          <a:xfrm>
            <a:off x="2050920" y="476280"/>
            <a:ext cx="453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黑体"/>
              </a:rPr>
              <a:t>二 、西安事变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黑体"/>
              <a:ea typeface="黑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1116000" y="191520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们为什么这样，为争地盘吗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是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1042920" y="318204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为泄私愤吗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也不是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539640" y="460836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齐 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我们反对政府屈辱的外交！国都要亡了，还在这里出死力自相残杀，所以才提出抗日救国运动的八项主张。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6692040" y="6338160"/>
            <a:ext cx="7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0" i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千古功臣、民族英雄”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2046600" y="6236640"/>
            <a:ext cx="23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周恩来高度评价他们是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1692360" y="63972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800000"/>
                </a:solidFill>
                <a:uFillTx/>
                <a:latin typeface="Arial"/>
                <a:ea typeface="隶书"/>
              </a:rPr>
              <a:t>体会张、杨的爱国情怀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95280" y="4762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姓张的和姓杨的竟敢扣押蒋委员长，真是大逆不道！我的军队一定和你们拼到底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4356000" y="0"/>
            <a:ext cx="4788000" cy="3900600"/>
          </a:xfrm>
          <a:prstGeom prst="cloudCallout">
            <a:avLst>
              <a:gd name="adj1" fmla="val -47810"/>
              <a:gd name="adj2" fmla="val 345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哈！哈！蒋介石呀蒋介石你也有今天。你放心吧，等你死了，委员长的宝座我替你坐着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800440" y="3716280"/>
            <a:ext cx="2143080" cy="26654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116000" y="5229360"/>
            <a:ext cx="1513080" cy="1068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亲日派何应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692280"/>
            <a:ext cx="5508720" cy="3673440"/>
          </a:xfrm>
          <a:prstGeom prst="cloudCallout">
            <a:avLst>
              <a:gd name="adj1" fmla="val 68384"/>
              <a:gd name="adj2" fmla="val 570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请你们不要杀蒋先生。只要蒋先生的生命安全，什么问题都可以商量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516720" y="3357720"/>
            <a:ext cx="2387520" cy="29732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4716360" y="5516640"/>
            <a:ext cx="1582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宋美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7093080" y="5734080"/>
            <a:ext cx="115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英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692280"/>
            <a:ext cx="5508720" cy="4565520"/>
          </a:xfrm>
          <a:prstGeom prst="cloudCallout">
            <a:avLst>
              <a:gd name="adj1" fmla="val 68384"/>
              <a:gd name="adj2" fmla="val 361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喔，上帝！如果中国被日本占领了，我们在中国的利益还能有保证吗？一定要促使中国人和平解决西安事变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443640" y="2637000"/>
            <a:ext cx="2403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771640" y="981000"/>
            <a:ext cx="6120000" cy="4471920"/>
          </a:xfrm>
          <a:prstGeom prst="cloudCallout">
            <a:avLst>
              <a:gd name="adj1" fmla="val -54851"/>
              <a:gd name="adj2" fmla="val 1791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哼！哼！哼！我一定要挑拨中国人打内战。让他们自相残杀吧！等到他们打到筋疲力尽的时候，中国就是我的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826920" y="6021360"/>
            <a:ext cx="1729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日  本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15843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WordArt 5"/>
          <p:cNvSpPr txBox="1"/>
          <p:nvPr/>
        </p:nvSpPr>
        <p:spPr>
          <a:xfrm>
            <a:off x="2124000" y="981000"/>
            <a:ext cx="49262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800000"/>
                </a:solidFill>
                <a:latin typeface="黑体"/>
              </a:rPr>
              <a:t>焦点辩论</a:t>
            </a:r>
            <a:endParaRPr b="1" lang="en-US" sz="1800" spc="1" strike="noStrike">
              <a:ln w="9360">
                <a:solidFill>
                  <a:srgbClr val="6600ff"/>
                </a:solidFill>
                <a:miter/>
              </a:ln>
              <a:solidFill>
                <a:srgbClr val="800000"/>
              </a:solidFill>
              <a:latin typeface="黑体"/>
              <a:ea typeface="黑体"/>
            </a:endParaRPr>
          </a:p>
        </p:txBody>
      </p:sp>
      <p:grpSp>
        <p:nvGrpSpPr>
          <p:cNvPr id="405" name="Group 14"/>
          <p:cNvGrpSpPr/>
          <p:nvPr/>
        </p:nvGrpSpPr>
        <p:grpSpPr>
          <a:xfrm>
            <a:off x="755640" y="2276640"/>
            <a:ext cx="7944480" cy="3620160"/>
            <a:chOff x="755640" y="2276640"/>
            <a:chExt cx="7944480" cy="3620160"/>
          </a:xfrm>
        </p:grpSpPr>
        <p:grpSp>
          <p:nvGrpSpPr>
            <p:cNvPr id="406" name="Group 13"/>
            <p:cNvGrpSpPr/>
            <p:nvPr/>
          </p:nvGrpSpPr>
          <p:grpSpPr>
            <a:xfrm>
              <a:off x="755640" y="2828520"/>
              <a:ext cx="7944480" cy="3068280"/>
              <a:chOff x="755640" y="2828520"/>
              <a:chExt cx="7944480" cy="3068280"/>
            </a:xfrm>
          </p:grpSpPr>
          <p:sp>
            <p:nvSpPr>
              <p:cNvPr id="407" name="AutoShape 7"/>
              <p:cNvSpPr/>
              <p:nvPr/>
            </p:nvSpPr>
            <p:spPr>
              <a:xfrm rot="223200">
                <a:off x="5868360" y="2916360"/>
                <a:ext cx="2772000" cy="1919160"/>
              </a:xfrm>
              <a:prstGeom prst="cloudCallout">
                <a:avLst>
                  <a:gd name="adj1" fmla="val -68101"/>
                  <a:gd name="adj2" fmla="val 67509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Arial"/>
                    <a:ea typeface="方正行楷简体"/>
                  </a:rPr>
                  <a:t>放蒋？</a:t>
                </a:r>
                <a:endParaRPr b="0" lang="en-US" sz="4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8" name="AutoShape 8"/>
              <p:cNvSpPr/>
              <p:nvPr/>
            </p:nvSpPr>
            <p:spPr>
              <a:xfrm>
                <a:off x="755640" y="2916360"/>
                <a:ext cx="2881080" cy="1838160"/>
              </a:xfrm>
              <a:prstGeom prst="cloudCallout">
                <a:avLst>
                  <a:gd name="adj1" fmla="val 48569"/>
                  <a:gd name="adj2" fmla="val 57763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Arial"/>
                    <a:ea typeface="方正行楷简体"/>
                  </a:rPr>
                  <a:t>杀蒋？</a:t>
                </a:r>
                <a:endParaRPr b="0" lang="en-US" sz="4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WordArt 11"/>
              <p:cNvSpPr txBox="1"/>
              <p:nvPr/>
            </p:nvSpPr>
            <p:spPr>
              <a:xfrm>
                <a:off x="2916000" y="5075640"/>
                <a:ext cx="3818160" cy="821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936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53966" dir="2700000" blurRad="0" rotWithShape="0">
                        <a:srgbClr val="00ffff">
                          <a:alpha val="80000"/>
                        </a:srgbClr>
                      </a:outerShdw>
                    </a:effectLst>
                    <a:latin typeface="华文行楷"/>
                  </a:rPr>
                  <a:t>你认为呢？</a:t>
                </a:r>
                <a:endParaRPr b="1" lang="en-US" sz="1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00ffff">
                        <a:alpha val="80000"/>
                      </a:srgbClr>
                    </a:outerShdw>
                  </a:effectLst>
                  <a:latin typeface="华文行楷"/>
                  <a:ea typeface="华文行楷"/>
                </a:endParaRPr>
              </a:p>
            </p:txBody>
          </p:sp>
        </p:grpSp>
        <p:pic>
          <p:nvPicPr>
            <p:cNvPr id="410" name="Picture 12" descr="D"/>
            <p:cNvPicPr/>
            <p:nvPr/>
          </p:nvPicPr>
          <p:blipFill>
            <a:blip r:embed="rId1"/>
            <a:srcRect l="40159" t="61674" r="40139" b="0"/>
            <a:stretch/>
          </p:blipFill>
          <p:spPr>
            <a:xfrm>
              <a:off x="3852720" y="2276640"/>
              <a:ext cx="1687680" cy="2319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755640" y="2275560"/>
            <a:ext cx="9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中国共产党主张怎样解决西安事变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900000" y="299628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主张和平解决西安事变，释放蒋介石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WordArt 4"/>
          <p:cNvSpPr txBox="1"/>
          <p:nvPr/>
        </p:nvSpPr>
        <p:spPr>
          <a:xfrm>
            <a:off x="2484360" y="1052640"/>
            <a:ext cx="446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黑体"/>
              </a:rPr>
              <a:t>思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黑体"/>
              <a:ea typeface="黑体"/>
            </a:endParaRPr>
          </a:p>
        </p:txBody>
      </p:sp>
      <p:sp>
        <p:nvSpPr>
          <p:cNvPr id="414" name=""/>
          <p:cNvSpPr/>
          <p:nvPr/>
        </p:nvSpPr>
        <p:spPr>
          <a:xfrm>
            <a:off x="1994400" y="3789360"/>
            <a:ext cx="38977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西安事变的解决有什么历史意义？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1042920" y="4653000"/>
            <a:ext cx="63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标志着十年内战基本结束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抗日民族统一战线的初步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国共第二次合作初步形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11280" y="907920"/>
            <a:ext cx="770400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难忘九一八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九三一九一八    日军进攻了沈阳蒋介石令不抵抗    东北三省全沦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东北人民共产党    局部抗战当自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学良和杨虎城    逼蒋抗日中外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共西安来调停    停战联共蒋答应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十年内战基本休    统一战线初形成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883908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8" name="WordArt 17"/>
          <p:cNvSpPr txBox="1"/>
          <p:nvPr/>
        </p:nvSpPr>
        <p:spPr>
          <a:xfrm>
            <a:off x="2050920" y="260280"/>
            <a:ext cx="46292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今天我们学了什么？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 spd="slow">
    <p:blinds dir="vert"/>
  </p:transition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46396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图片1"/>
          <p:cNvPicPr/>
          <p:nvPr/>
        </p:nvPicPr>
        <p:blipFill>
          <a:blip r:embed="rId1"/>
          <a:stretch/>
        </p:blipFill>
        <p:spPr>
          <a:xfrm>
            <a:off x="5508720" y="6165720"/>
            <a:ext cx="1728720" cy="692280"/>
          </a:xfrm>
          <a:prstGeom prst="rect">
            <a:avLst/>
          </a:prstGeom>
          <a:ln w="0">
            <a:noFill/>
          </a:ln>
        </p:spPr>
      </p:pic>
      <p:sp>
        <p:nvSpPr>
          <p:cNvPr id="315" name="WordArt 5"/>
          <p:cNvSpPr txBox="1"/>
          <p:nvPr/>
        </p:nvSpPr>
        <p:spPr>
          <a:xfrm>
            <a:off x="6732720" y="6093000"/>
            <a:ext cx="1800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动脑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6" name="WordArt 19"/>
          <p:cNvSpPr txBox="1"/>
          <p:nvPr/>
        </p:nvSpPr>
        <p:spPr>
          <a:xfrm>
            <a:off x="1692360" y="620640"/>
            <a:ext cx="468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黑体"/>
              </a:rPr>
              <a:t>一 、九一八事变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黑体"/>
              <a:ea typeface="黑体"/>
            </a:endParaRPr>
          </a:p>
        </p:txBody>
      </p:sp>
      <p:sp>
        <p:nvSpPr>
          <p:cNvPr id="317" name=""/>
          <p:cNvSpPr/>
          <p:nvPr/>
        </p:nvSpPr>
        <p:spPr>
          <a:xfrm>
            <a:off x="684360" y="1989000"/>
            <a:ext cx="7848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观看视频，思考：九一八事变发生的时间、地点、借口分别是什么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27734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个优秀的民族必定是一个牢记历史的民族。面对那段屈辱的历史，我们现在一定感慨万千，现在请大家畅所欲言，谈谈自己的感受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WordArt 3"/>
          <p:cNvSpPr txBox="1"/>
          <p:nvPr/>
        </p:nvSpPr>
        <p:spPr>
          <a:xfrm>
            <a:off x="2124000" y="907920"/>
            <a:ext cx="496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心灵感悟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421" name="Picture 5" descr="UF596203"/>
          <p:cNvPicPr/>
          <p:nvPr/>
        </p:nvPicPr>
        <p:blipFill>
          <a:blip r:embed="rId1"/>
          <a:stretch/>
        </p:blipFill>
        <p:spPr>
          <a:xfrm>
            <a:off x="1692360" y="1890720"/>
            <a:ext cx="5329080" cy="169920"/>
          </a:xfrm>
          <a:prstGeom prst="rect">
            <a:avLst/>
          </a:prstGeom>
          <a:ln w="0">
            <a:noFill/>
          </a:ln>
        </p:spPr>
      </p:pic>
      <p:sp>
        <p:nvSpPr>
          <p:cNvPr id="422" name="WordArt 7"/>
          <p:cNvSpPr txBox="1"/>
          <p:nvPr/>
        </p:nvSpPr>
        <p:spPr>
          <a:xfrm>
            <a:off x="3203640" y="3789360"/>
            <a:ext cx="35272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牢记历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不忘过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珍爱和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开创未来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353440" cy="594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歌曲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花江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唱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一八，九一八，从那个悲惨的时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一八事变发生在（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皇姑屯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沈阳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山海关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长春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一八事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爆发后蒋介石采取的方针是（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抵抗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表态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片面抗战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抵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九一八事变后，在东北组织抗日游击队的主要领导人是（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吉鸿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杨靖宇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佟麟阁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赵登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东北沦陷后，东北人民和未撤走的东北军               部队组织起 （　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抗日义勇军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抗日救国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八路军　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新四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WordArt 4"/>
          <p:cNvSpPr txBox="1"/>
          <p:nvPr/>
        </p:nvSpPr>
        <p:spPr>
          <a:xfrm>
            <a:off x="179280" y="46080"/>
            <a:ext cx="540072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你掌握了吗？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25" name="WordArt 5"/>
          <p:cNvSpPr txBox="1"/>
          <p:nvPr/>
        </p:nvSpPr>
        <p:spPr>
          <a:xfrm rot="844200">
            <a:off x="7811640" y="2349360"/>
            <a:ext cx="728640" cy="598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0" i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6" name="WordArt 6"/>
          <p:cNvSpPr txBox="1"/>
          <p:nvPr/>
        </p:nvSpPr>
        <p:spPr>
          <a:xfrm rot="533400">
            <a:off x="2987280" y="5084640"/>
            <a:ext cx="647640" cy="454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0" i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7" name="WordArt 7"/>
          <p:cNvSpPr txBox="1"/>
          <p:nvPr/>
        </p:nvSpPr>
        <p:spPr>
          <a:xfrm>
            <a:off x="1979640" y="3933720"/>
            <a:ext cx="944640" cy="50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0" i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8" name="WordArt 8"/>
          <p:cNvSpPr txBox="1"/>
          <p:nvPr/>
        </p:nvSpPr>
        <p:spPr>
          <a:xfrm>
            <a:off x="7380360" y="1268280"/>
            <a:ext cx="647640" cy="52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0" i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6756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九一八事变后，中国共产党及时发表宣言、通电，提出 （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国共两党亲密合作抵抗日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抗日救国十大纲领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以民族革命战争驱逐日本帝国主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建立全国抗日民族统一战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抗日民族统一战线初步形成的标志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一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变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一宣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表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瓦窑堡会议召开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西安事变的和平解决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西安事变发生后，中共派到西安调停的是（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毛泽东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周恩来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张学良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杨虎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WordArt 5"/>
          <p:cNvSpPr txBox="1"/>
          <p:nvPr/>
        </p:nvSpPr>
        <p:spPr>
          <a:xfrm>
            <a:off x="250920" y="260280"/>
            <a:ext cx="5257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你掌握了吗？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31" name="WordArt 6"/>
          <p:cNvSpPr txBox="1"/>
          <p:nvPr/>
        </p:nvSpPr>
        <p:spPr>
          <a:xfrm rot="533400">
            <a:off x="3634920" y="1052640"/>
            <a:ext cx="944640" cy="742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0" i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2" name="WordArt 7"/>
          <p:cNvSpPr txBox="1"/>
          <p:nvPr/>
        </p:nvSpPr>
        <p:spPr>
          <a:xfrm rot="533400">
            <a:off x="7884720" y="3213000"/>
            <a:ext cx="944640" cy="743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0" i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3" name="WordArt 8"/>
          <p:cNvSpPr txBox="1"/>
          <p:nvPr/>
        </p:nvSpPr>
        <p:spPr>
          <a:xfrm rot="533400">
            <a:off x="1186920" y="5516640"/>
            <a:ext cx="944640" cy="743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0" i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/>
          <p:cNvSpPr/>
          <p:nvPr/>
        </p:nvSpPr>
        <p:spPr>
          <a:xfrm>
            <a:off x="1979640" y="11124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填一填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-14400" y="969840"/>
            <a:ext cx="911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_____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_____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____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日，日本侵略者有预谋地制造了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________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事件并趁机炮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_____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城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-3240" y="2959200"/>
            <a:ext cx="913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为了抵抗日本的侵略，东北人民和未撤走的东北军部队组织起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___________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中国共产党派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_______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等在东北组织游击队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866880" y="955800"/>
            <a:ext cx="4560840" cy="1461600"/>
            <a:chOff x="866880" y="955800"/>
            <a:chExt cx="4560840" cy="1461600"/>
          </a:xfrm>
        </p:grpSpPr>
        <p:sp>
          <p:nvSpPr>
            <p:cNvPr id="438" name="Text Box 6"/>
            <p:cNvSpPr/>
            <p:nvPr/>
          </p:nvSpPr>
          <p:spPr>
            <a:xfrm>
              <a:off x="866880" y="955800"/>
              <a:ext cx="13665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1931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Text Box 7"/>
            <p:cNvSpPr/>
            <p:nvPr/>
          </p:nvSpPr>
          <p:spPr>
            <a:xfrm>
              <a:off x="3125880" y="968400"/>
              <a:ext cx="8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Text Box 8"/>
            <p:cNvSpPr/>
            <p:nvPr/>
          </p:nvSpPr>
          <p:spPr>
            <a:xfrm>
              <a:off x="4635360" y="982800"/>
              <a:ext cx="792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Text Box 9"/>
          <p:cNvSpPr/>
          <p:nvPr/>
        </p:nvSpPr>
        <p:spPr>
          <a:xfrm>
            <a:off x="3817800" y="1512720"/>
            <a:ext cx="213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柳条湖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658800" y="218772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沈阳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11"/>
          <p:cNvSpPr/>
          <p:nvPr/>
        </p:nvSpPr>
        <p:spPr>
          <a:xfrm>
            <a:off x="5729400" y="3584520"/>
            <a:ext cx="33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抗日义勇军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12"/>
          <p:cNvSpPr/>
          <p:nvPr/>
        </p:nvSpPr>
        <p:spPr>
          <a:xfrm>
            <a:off x="3141720" y="421020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杨靖宇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0" y="147600"/>
            <a:ext cx="90867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 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_____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日，伟大的爱国者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______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______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联合行动，扣押了蒋介石，实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兵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史称＿＿＿＿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-41400" y="2249640"/>
            <a:ext cx="908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西安事变发生后，中国共产党从全民族利益出发，主张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________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解决，并派＿＿＿＿等到西安调停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108080" y="1843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1936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8440" y="752400"/>
            <a:ext cx="188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张学良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2044800" y="71136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杨虎城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4640400" y="285912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和平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214200" y="3414600"/>
            <a:ext cx="188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周恩来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4906800" y="1287360"/>
            <a:ext cx="24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西安事变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12600" y="0"/>
            <a:ext cx="9131400" cy="58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读一读，你有何收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材料一</a:t>
            </a:r>
            <a:r>
              <a:rPr b="1" lang="en-US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无论日本军队此后如何在东北寻衅，我方应予不抵抗，力避冲突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材料二</a:t>
            </a:r>
            <a:r>
              <a:rPr b="1" lang="en-US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中国亡于帝国主义，我们还能当亡国奴，尚可苟延残喘；若亡于共产党，则纵肯为奴隶亦不可得。请回答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材料一是出现在哪一重大事件前后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材料一的态度如何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根据材料二说明采取材料一中态度的真实意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6853320" y="3357720"/>
            <a:ext cx="22906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九一八事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4067280" y="4005360"/>
            <a:ext cx="3128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日本侵略不抵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971640" y="5300640"/>
            <a:ext cx="350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集中力量剿灭共产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262080" y="6254640"/>
            <a:ext cx="639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东北三省沦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5127480" y="-747720"/>
            <a:ext cx="189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909000" y="589752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此态度造成了怎样严重的恶果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九一八031 复制"/>
          <p:cNvPicPr/>
          <p:nvPr/>
        </p:nvPicPr>
        <p:blipFill>
          <a:blip r:embed="rId1">
            <a:lum contrast="42000"/>
          </a:blip>
          <a:srcRect l="3256" t="2684" r="2845" b="1450"/>
          <a:stretch/>
        </p:blipFill>
        <p:spPr>
          <a:xfrm>
            <a:off x="755640" y="1484280"/>
            <a:ext cx="7489800" cy="5170680"/>
          </a:xfrm>
          <a:prstGeom prst="rect">
            <a:avLst/>
          </a:prstGeom>
          <a:ln w="0">
            <a:noFill/>
          </a:ln>
        </p:spPr>
      </p:pic>
      <p:sp>
        <p:nvSpPr>
          <p:cNvPr id="319" name="矩形 4"/>
          <p:cNvSpPr/>
          <p:nvPr/>
        </p:nvSpPr>
        <p:spPr>
          <a:xfrm>
            <a:off x="395280" y="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动脑筋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日本侵略者侵略中国东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什么要先制造柳条湖事件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5867280" y="2205000"/>
            <a:ext cx="503280" cy="71928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Oval 3"/>
          <p:cNvSpPr/>
          <p:nvPr/>
        </p:nvSpPr>
        <p:spPr>
          <a:xfrm>
            <a:off x="4067280" y="2205000"/>
            <a:ext cx="1800000" cy="720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AutoShape 120"/>
          <p:cNvSpPr/>
          <p:nvPr/>
        </p:nvSpPr>
        <p:spPr>
          <a:xfrm>
            <a:off x="4356000" y="4437000"/>
            <a:ext cx="719280" cy="91764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971640" y="5084640"/>
            <a:ext cx="25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蒋介石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4" name="Picture 3" descr="761a7f8910edc2a20e2444c1"/>
          <p:cNvPicPr/>
          <p:nvPr/>
        </p:nvPicPr>
        <p:blipFill>
          <a:blip r:embed="rId1"/>
          <a:stretch/>
        </p:blipFill>
        <p:spPr>
          <a:xfrm>
            <a:off x="0" y="260280"/>
            <a:ext cx="3225960" cy="417672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4"/>
          <p:cNvSpPr/>
          <p:nvPr/>
        </p:nvSpPr>
        <p:spPr>
          <a:xfrm>
            <a:off x="3348000" y="1268280"/>
            <a:ext cx="5292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无论日本军队此后如何在东北寻衅，我方应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抵抗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力避冲突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蒋介石致张学良密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3276720" y="515772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不抵抗政策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2" descr="图片2"/>
          <p:cNvPicPr/>
          <p:nvPr/>
        </p:nvPicPr>
        <p:blipFill>
          <a:blip r:embed="rId1"/>
          <a:srcRect l="0" t="4034" r="0" b="0"/>
          <a:stretch/>
        </p:blipFill>
        <p:spPr>
          <a:xfrm>
            <a:off x="826920" y="404640"/>
            <a:ext cx="7632720" cy="6120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yan"/>
          <p:cNvPicPr/>
          <p:nvPr/>
        </p:nvPicPr>
        <p:blipFill>
          <a:blip r:embed="rId2"/>
          <a:stretch/>
        </p:blipFill>
        <p:spPr>
          <a:xfrm>
            <a:off x="7308720" y="333360"/>
            <a:ext cx="1447920" cy="1066680"/>
          </a:xfrm>
          <a:prstGeom prst="rect">
            <a:avLst/>
          </a:prstGeom>
          <a:ln w="0">
            <a:noFill/>
          </a:ln>
        </p:spPr>
      </p:pic>
      <p:sp>
        <p:nvSpPr>
          <p:cNvPr id="329" name="Freeform 19"/>
          <p:cNvSpPr/>
          <p:nvPr/>
        </p:nvSpPr>
        <p:spPr>
          <a:xfrm>
            <a:off x="2120760" y="404640"/>
            <a:ext cx="6224760" cy="5850000"/>
          </a:xfrm>
          <a:custGeom>
            <a:avLst/>
            <a:gdLst>
              <a:gd name="textAreaLeft" fmla="*/ 0 w 6224760"/>
              <a:gd name="textAreaRight" fmla="*/ 6225120 w 6224760"/>
              <a:gd name="textAreaTop" fmla="*/ 0 h 5850000"/>
              <a:gd name="textAreaBottom" fmla="*/ 5850360 h 5850000"/>
            </a:gdLst>
            <a:ahLst/>
            <a:rect l="textAreaLeft" t="textAreaTop" r="textAreaRight" b="textAreaBottom"/>
            <a:pathLst>
              <a:path w="3921" h="3685">
                <a:moveTo>
                  <a:pt x="512" y="924"/>
                </a:moveTo>
                <a:cubicBezTo>
                  <a:pt x="573" y="918"/>
                  <a:pt x="597" y="917"/>
                  <a:pt x="655" y="894"/>
                </a:cubicBezTo>
                <a:cubicBezTo>
                  <a:pt x="673" y="886"/>
                  <a:pt x="696" y="866"/>
                  <a:pt x="704" y="848"/>
                </a:cubicBezTo>
                <a:cubicBezTo>
                  <a:pt x="715" y="822"/>
                  <a:pt x="788" y="822"/>
                  <a:pt x="792" y="822"/>
                </a:cubicBezTo>
                <a:cubicBezTo>
                  <a:pt x="828" y="785"/>
                  <a:pt x="842" y="716"/>
                  <a:pt x="784" y="696"/>
                </a:cubicBezTo>
                <a:cubicBezTo>
                  <a:pt x="748" y="639"/>
                  <a:pt x="786" y="647"/>
                  <a:pt x="824" y="620"/>
                </a:cubicBezTo>
                <a:cubicBezTo>
                  <a:pt x="843" y="561"/>
                  <a:pt x="815" y="630"/>
                  <a:pt x="864" y="578"/>
                </a:cubicBezTo>
                <a:cubicBezTo>
                  <a:pt x="870" y="572"/>
                  <a:pt x="867" y="560"/>
                  <a:pt x="872" y="553"/>
                </a:cubicBezTo>
                <a:cubicBezTo>
                  <a:pt x="891" y="523"/>
                  <a:pt x="922" y="513"/>
                  <a:pt x="952" y="502"/>
                </a:cubicBezTo>
                <a:cubicBezTo>
                  <a:pt x="973" y="435"/>
                  <a:pt x="941" y="514"/>
                  <a:pt x="984" y="469"/>
                </a:cubicBezTo>
                <a:cubicBezTo>
                  <a:pt x="1005" y="446"/>
                  <a:pt x="990" y="413"/>
                  <a:pt x="1032" y="393"/>
                </a:cubicBezTo>
                <a:cubicBezTo>
                  <a:pt x="1055" y="382"/>
                  <a:pt x="1080" y="376"/>
                  <a:pt x="1104" y="368"/>
                </a:cubicBezTo>
                <a:cubicBezTo>
                  <a:pt x="1112" y="364"/>
                  <a:pt x="1128" y="359"/>
                  <a:pt x="1128" y="359"/>
                </a:cubicBezTo>
                <a:cubicBezTo>
                  <a:pt x="1107" y="293"/>
                  <a:pt x="1099" y="279"/>
                  <a:pt x="1032" y="258"/>
                </a:cubicBezTo>
                <a:cubicBezTo>
                  <a:pt x="1016" y="253"/>
                  <a:pt x="1000" y="246"/>
                  <a:pt x="984" y="241"/>
                </a:cubicBezTo>
                <a:cubicBezTo>
                  <a:pt x="976" y="238"/>
                  <a:pt x="960" y="233"/>
                  <a:pt x="960" y="233"/>
                </a:cubicBezTo>
                <a:cubicBezTo>
                  <a:pt x="957" y="221"/>
                  <a:pt x="955" y="211"/>
                  <a:pt x="952" y="199"/>
                </a:cubicBezTo>
                <a:cubicBezTo>
                  <a:pt x="950" y="191"/>
                  <a:pt x="941" y="182"/>
                  <a:pt x="944" y="174"/>
                </a:cubicBezTo>
                <a:cubicBezTo>
                  <a:pt x="950" y="157"/>
                  <a:pt x="1014" y="138"/>
                  <a:pt x="1032" y="132"/>
                </a:cubicBezTo>
                <a:cubicBezTo>
                  <a:pt x="1128" y="31"/>
                  <a:pt x="1214" y="44"/>
                  <a:pt x="1361" y="39"/>
                </a:cubicBezTo>
                <a:cubicBezTo>
                  <a:pt x="1462" y="0"/>
                  <a:pt x="1556" y="37"/>
                  <a:pt x="1645" y="29"/>
                </a:cubicBezTo>
                <a:cubicBezTo>
                  <a:pt x="1683" y="34"/>
                  <a:pt x="1721" y="25"/>
                  <a:pt x="1752" y="47"/>
                </a:cubicBezTo>
                <a:cubicBezTo>
                  <a:pt x="1778" y="66"/>
                  <a:pt x="1863" y="69"/>
                  <a:pt x="1901" y="97"/>
                </a:cubicBezTo>
                <a:cubicBezTo>
                  <a:pt x="2038" y="222"/>
                  <a:pt x="1888" y="147"/>
                  <a:pt x="2001" y="164"/>
                </a:cubicBezTo>
                <a:cubicBezTo>
                  <a:pt x="2012" y="170"/>
                  <a:pt x="2037" y="237"/>
                  <a:pt x="2048" y="241"/>
                </a:cubicBezTo>
                <a:cubicBezTo>
                  <a:pt x="2058" y="245"/>
                  <a:pt x="2071" y="242"/>
                  <a:pt x="2080" y="250"/>
                </a:cubicBezTo>
                <a:cubicBezTo>
                  <a:pt x="2087" y="255"/>
                  <a:pt x="2085" y="266"/>
                  <a:pt x="2088" y="275"/>
                </a:cubicBezTo>
                <a:cubicBezTo>
                  <a:pt x="2100" y="304"/>
                  <a:pt x="2111" y="333"/>
                  <a:pt x="2128" y="359"/>
                </a:cubicBezTo>
                <a:cubicBezTo>
                  <a:pt x="2134" y="401"/>
                  <a:pt x="2143" y="457"/>
                  <a:pt x="2168" y="494"/>
                </a:cubicBezTo>
                <a:cubicBezTo>
                  <a:pt x="2180" y="512"/>
                  <a:pt x="2201" y="520"/>
                  <a:pt x="2216" y="536"/>
                </a:cubicBezTo>
                <a:cubicBezTo>
                  <a:pt x="2245" y="629"/>
                  <a:pt x="2199" y="489"/>
                  <a:pt x="2240" y="587"/>
                </a:cubicBezTo>
                <a:cubicBezTo>
                  <a:pt x="2268" y="653"/>
                  <a:pt x="2237" y="623"/>
                  <a:pt x="2280" y="654"/>
                </a:cubicBezTo>
                <a:cubicBezTo>
                  <a:pt x="2277" y="662"/>
                  <a:pt x="2269" y="671"/>
                  <a:pt x="2272" y="679"/>
                </a:cubicBezTo>
                <a:cubicBezTo>
                  <a:pt x="2276" y="689"/>
                  <a:pt x="2290" y="688"/>
                  <a:pt x="2296" y="696"/>
                </a:cubicBezTo>
                <a:cubicBezTo>
                  <a:pt x="2314" y="723"/>
                  <a:pt x="2318" y="760"/>
                  <a:pt x="2336" y="789"/>
                </a:cubicBezTo>
                <a:cubicBezTo>
                  <a:pt x="2344" y="829"/>
                  <a:pt x="2351" y="854"/>
                  <a:pt x="2368" y="890"/>
                </a:cubicBezTo>
                <a:cubicBezTo>
                  <a:pt x="2422" y="871"/>
                  <a:pt x="2522" y="968"/>
                  <a:pt x="2577" y="973"/>
                </a:cubicBezTo>
                <a:cubicBezTo>
                  <a:pt x="2679" y="937"/>
                  <a:pt x="2777" y="1010"/>
                  <a:pt x="2879" y="1040"/>
                </a:cubicBezTo>
                <a:cubicBezTo>
                  <a:pt x="2896" y="1111"/>
                  <a:pt x="2868" y="980"/>
                  <a:pt x="2915" y="1040"/>
                </a:cubicBezTo>
                <a:cubicBezTo>
                  <a:pt x="2962" y="1100"/>
                  <a:pt x="2876" y="968"/>
                  <a:pt x="2960" y="1041"/>
                </a:cubicBezTo>
                <a:cubicBezTo>
                  <a:pt x="2974" y="1053"/>
                  <a:pt x="2992" y="1146"/>
                  <a:pt x="3007" y="1156"/>
                </a:cubicBezTo>
                <a:cubicBezTo>
                  <a:pt x="3050" y="1248"/>
                  <a:pt x="3033" y="1323"/>
                  <a:pt x="3144" y="1362"/>
                </a:cubicBezTo>
                <a:cubicBezTo>
                  <a:pt x="3325" y="1340"/>
                  <a:pt x="3231" y="1296"/>
                  <a:pt x="3482" y="1291"/>
                </a:cubicBezTo>
                <a:cubicBezTo>
                  <a:pt x="3490" y="1288"/>
                  <a:pt x="3522" y="1219"/>
                  <a:pt x="3528" y="1213"/>
                </a:cubicBezTo>
                <a:cubicBezTo>
                  <a:pt x="3532" y="1209"/>
                  <a:pt x="3638" y="1194"/>
                  <a:pt x="3638" y="1194"/>
                </a:cubicBezTo>
                <a:cubicBezTo>
                  <a:pt x="3653" y="1123"/>
                  <a:pt x="3663" y="1255"/>
                  <a:pt x="3688" y="1176"/>
                </a:cubicBezTo>
                <a:cubicBezTo>
                  <a:pt x="3698" y="1146"/>
                  <a:pt x="3729" y="1141"/>
                  <a:pt x="3752" y="1126"/>
                </a:cubicBezTo>
                <a:cubicBezTo>
                  <a:pt x="3774" y="1130"/>
                  <a:pt x="3841" y="1110"/>
                  <a:pt x="3857" y="1127"/>
                </a:cubicBezTo>
                <a:cubicBezTo>
                  <a:pt x="3921" y="1194"/>
                  <a:pt x="3818" y="1183"/>
                  <a:pt x="3872" y="1202"/>
                </a:cubicBezTo>
                <a:cubicBezTo>
                  <a:pt x="3880" y="1227"/>
                  <a:pt x="3891" y="1249"/>
                  <a:pt x="3872" y="1277"/>
                </a:cubicBezTo>
                <a:cubicBezTo>
                  <a:pt x="3861" y="1294"/>
                  <a:pt x="3834" y="1288"/>
                  <a:pt x="3816" y="1294"/>
                </a:cubicBezTo>
                <a:cubicBezTo>
                  <a:pt x="3797" y="1314"/>
                  <a:pt x="3768" y="1327"/>
                  <a:pt x="3760" y="1353"/>
                </a:cubicBezTo>
                <a:cubicBezTo>
                  <a:pt x="3757" y="1362"/>
                  <a:pt x="3758" y="1372"/>
                  <a:pt x="3752" y="1378"/>
                </a:cubicBezTo>
                <a:cubicBezTo>
                  <a:pt x="3744" y="1387"/>
                  <a:pt x="3731" y="1390"/>
                  <a:pt x="3720" y="1395"/>
                </a:cubicBezTo>
                <a:cubicBezTo>
                  <a:pt x="3715" y="1416"/>
                  <a:pt x="3701" y="1433"/>
                  <a:pt x="3696" y="1454"/>
                </a:cubicBezTo>
                <a:cubicBezTo>
                  <a:pt x="3690" y="1482"/>
                  <a:pt x="3761" y="1513"/>
                  <a:pt x="3757" y="1541"/>
                </a:cubicBezTo>
                <a:cubicBezTo>
                  <a:pt x="3749" y="1598"/>
                  <a:pt x="3666" y="1657"/>
                  <a:pt x="3656" y="1715"/>
                </a:cubicBezTo>
                <a:cubicBezTo>
                  <a:pt x="3651" y="1746"/>
                  <a:pt x="3633" y="1765"/>
                  <a:pt x="3616" y="1791"/>
                </a:cubicBezTo>
                <a:cubicBezTo>
                  <a:pt x="3611" y="1800"/>
                  <a:pt x="3600" y="1816"/>
                  <a:pt x="3600" y="1816"/>
                </a:cubicBezTo>
                <a:cubicBezTo>
                  <a:pt x="3615" y="1879"/>
                  <a:pt x="3610" y="1824"/>
                  <a:pt x="3592" y="1875"/>
                </a:cubicBezTo>
                <a:cubicBezTo>
                  <a:pt x="3577" y="1918"/>
                  <a:pt x="3588" y="1935"/>
                  <a:pt x="3544" y="1951"/>
                </a:cubicBezTo>
                <a:cubicBezTo>
                  <a:pt x="3531" y="1966"/>
                  <a:pt x="3566" y="2065"/>
                  <a:pt x="3555" y="2070"/>
                </a:cubicBezTo>
                <a:cubicBezTo>
                  <a:pt x="3540" y="2091"/>
                  <a:pt x="3488" y="2086"/>
                  <a:pt x="3455" y="2080"/>
                </a:cubicBezTo>
                <a:cubicBezTo>
                  <a:pt x="3445" y="2086"/>
                  <a:pt x="3354" y="1907"/>
                  <a:pt x="3354" y="2032"/>
                </a:cubicBezTo>
                <a:cubicBezTo>
                  <a:pt x="3290" y="1954"/>
                  <a:pt x="3252" y="2067"/>
                  <a:pt x="3199" y="2070"/>
                </a:cubicBezTo>
                <a:cubicBezTo>
                  <a:pt x="3154" y="2086"/>
                  <a:pt x="3233" y="2097"/>
                  <a:pt x="3208" y="2137"/>
                </a:cubicBezTo>
                <a:cubicBezTo>
                  <a:pt x="3199" y="2151"/>
                  <a:pt x="3235" y="2186"/>
                  <a:pt x="3235" y="2186"/>
                </a:cubicBezTo>
                <a:cubicBezTo>
                  <a:pt x="3230" y="2237"/>
                  <a:pt x="3260" y="2283"/>
                  <a:pt x="3245" y="2330"/>
                </a:cubicBezTo>
                <a:cubicBezTo>
                  <a:pt x="3260" y="2439"/>
                  <a:pt x="3262" y="2568"/>
                  <a:pt x="3144" y="2609"/>
                </a:cubicBezTo>
                <a:cubicBezTo>
                  <a:pt x="3120" y="2606"/>
                  <a:pt x="3007" y="2590"/>
                  <a:pt x="3034" y="2600"/>
                </a:cubicBezTo>
                <a:cubicBezTo>
                  <a:pt x="3001" y="2588"/>
                  <a:pt x="2993" y="2618"/>
                  <a:pt x="2976" y="2591"/>
                </a:cubicBezTo>
                <a:cubicBezTo>
                  <a:pt x="2962" y="2635"/>
                  <a:pt x="2956" y="2684"/>
                  <a:pt x="2920" y="2709"/>
                </a:cubicBezTo>
                <a:cubicBezTo>
                  <a:pt x="2845" y="2827"/>
                  <a:pt x="2791" y="2802"/>
                  <a:pt x="2648" y="2811"/>
                </a:cubicBezTo>
                <a:cubicBezTo>
                  <a:pt x="2643" y="2813"/>
                  <a:pt x="2596" y="2823"/>
                  <a:pt x="2608" y="2844"/>
                </a:cubicBezTo>
                <a:cubicBezTo>
                  <a:pt x="2618" y="2862"/>
                  <a:pt x="2656" y="2878"/>
                  <a:pt x="2656" y="2878"/>
                </a:cubicBezTo>
                <a:cubicBezTo>
                  <a:pt x="2653" y="2923"/>
                  <a:pt x="2608" y="2945"/>
                  <a:pt x="2577" y="2976"/>
                </a:cubicBezTo>
                <a:cubicBezTo>
                  <a:pt x="2546" y="3006"/>
                  <a:pt x="2460" y="2978"/>
                  <a:pt x="2416" y="2962"/>
                </a:cubicBezTo>
                <a:cubicBezTo>
                  <a:pt x="2400" y="2937"/>
                  <a:pt x="2392" y="2912"/>
                  <a:pt x="2376" y="2886"/>
                </a:cubicBezTo>
                <a:cubicBezTo>
                  <a:pt x="2343" y="2899"/>
                  <a:pt x="2327" y="3018"/>
                  <a:pt x="2266" y="3072"/>
                </a:cubicBezTo>
                <a:cubicBezTo>
                  <a:pt x="2205" y="3125"/>
                  <a:pt x="2083" y="3166"/>
                  <a:pt x="2010" y="3206"/>
                </a:cubicBezTo>
                <a:cubicBezTo>
                  <a:pt x="1915" y="3273"/>
                  <a:pt x="1920" y="3271"/>
                  <a:pt x="1827" y="3313"/>
                </a:cubicBezTo>
                <a:cubicBezTo>
                  <a:pt x="1739" y="3360"/>
                  <a:pt x="1574" y="3445"/>
                  <a:pt x="1481" y="3489"/>
                </a:cubicBezTo>
                <a:cubicBezTo>
                  <a:pt x="1389" y="3528"/>
                  <a:pt x="1334" y="3546"/>
                  <a:pt x="1269" y="3577"/>
                </a:cubicBezTo>
                <a:cubicBezTo>
                  <a:pt x="1204" y="3608"/>
                  <a:pt x="1111" y="3685"/>
                  <a:pt x="1093" y="3673"/>
                </a:cubicBezTo>
                <a:cubicBezTo>
                  <a:pt x="1075" y="3661"/>
                  <a:pt x="1134" y="3564"/>
                  <a:pt x="1160" y="3504"/>
                </a:cubicBezTo>
                <a:cubicBezTo>
                  <a:pt x="1186" y="3444"/>
                  <a:pt x="1219" y="3361"/>
                  <a:pt x="1251" y="3313"/>
                </a:cubicBezTo>
                <a:cubicBezTo>
                  <a:pt x="1283" y="3264"/>
                  <a:pt x="1350" y="3241"/>
                  <a:pt x="1352" y="3216"/>
                </a:cubicBezTo>
                <a:cubicBezTo>
                  <a:pt x="1354" y="3191"/>
                  <a:pt x="1361" y="3136"/>
                  <a:pt x="1261" y="3158"/>
                </a:cubicBezTo>
                <a:cubicBezTo>
                  <a:pt x="1161" y="3180"/>
                  <a:pt x="834" y="3329"/>
                  <a:pt x="749" y="3351"/>
                </a:cubicBezTo>
                <a:cubicBezTo>
                  <a:pt x="666" y="3374"/>
                  <a:pt x="729" y="3320"/>
                  <a:pt x="749" y="3293"/>
                </a:cubicBezTo>
                <a:cubicBezTo>
                  <a:pt x="769" y="3265"/>
                  <a:pt x="814" y="3233"/>
                  <a:pt x="867" y="3188"/>
                </a:cubicBezTo>
                <a:cubicBezTo>
                  <a:pt x="920" y="3142"/>
                  <a:pt x="1025" y="3072"/>
                  <a:pt x="1069" y="3023"/>
                </a:cubicBezTo>
                <a:cubicBezTo>
                  <a:pt x="1113" y="2975"/>
                  <a:pt x="1100" y="2917"/>
                  <a:pt x="1133" y="2898"/>
                </a:cubicBezTo>
                <a:cubicBezTo>
                  <a:pt x="1166" y="2879"/>
                  <a:pt x="1223" y="2934"/>
                  <a:pt x="1270" y="2908"/>
                </a:cubicBezTo>
                <a:cubicBezTo>
                  <a:pt x="1317" y="2883"/>
                  <a:pt x="1404" y="2772"/>
                  <a:pt x="1416" y="2744"/>
                </a:cubicBezTo>
                <a:cubicBezTo>
                  <a:pt x="1428" y="2710"/>
                  <a:pt x="1372" y="2760"/>
                  <a:pt x="1343" y="2744"/>
                </a:cubicBezTo>
                <a:cubicBezTo>
                  <a:pt x="1308" y="2740"/>
                  <a:pt x="1215" y="2743"/>
                  <a:pt x="1206" y="2716"/>
                </a:cubicBezTo>
                <a:cubicBezTo>
                  <a:pt x="1208" y="2702"/>
                  <a:pt x="1279" y="2597"/>
                  <a:pt x="1288" y="2581"/>
                </a:cubicBezTo>
                <a:cubicBezTo>
                  <a:pt x="1300" y="2544"/>
                  <a:pt x="1228" y="2567"/>
                  <a:pt x="1224" y="2542"/>
                </a:cubicBezTo>
                <a:cubicBezTo>
                  <a:pt x="1220" y="2517"/>
                  <a:pt x="1259" y="2462"/>
                  <a:pt x="1264" y="2431"/>
                </a:cubicBezTo>
                <a:cubicBezTo>
                  <a:pt x="1261" y="2406"/>
                  <a:pt x="1269" y="2377"/>
                  <a:pt x="1256" y="2356"/>
                </a:cubicBezTo>
                <a:cubicBezTo>
                  <a:pt x="1247" y="2341"/>
                  <a:pt x="1208" y="2339"/>
                  <a:pt x="1208" y="2339"/>
                </a:cubicBezTo>
                <a:cubicBezTo>
                  <a:pt x="1181" y="2297"/>
                  <a:pt x="1191" y="2265"/>
                  <a:pt x="1152" y="2238"/>
                </a:cubicBezTo>
                <a:cubicBezTo>
                  <a:pt x="1106" y="2165"/>
                  <a:pt x="1161" y="2257"/>
                  <a:pt x="1128" y="2187"/>
                </a:cubicBezTo>
                <a:cubicBezTo>
                  <a:pt x="1113" y="2156"/>
                  <a:pt x="1055" y="2091"/>
                  <a:pt x="1024" y="2069"/>
                </a:cubicBezTo>
                <a:cubicBezTo>
                  <a:pt x="1019" y="2061"/>
                  <a:pt x="1017" y="2046"/>
                  <a:pt x="1008" y="2044"/>
                </a:cubicBezTo>
                <a:cubicBezTo>
                  <a:pt x="984" y="2038"/>
                  <a:pt x="929" y="2063"/>
                  <a:pt x="904" y="2069"/>
                </a:cubicBezTo>
                <a:cubicBezTo>
                  <a:pt x="852" y="2056"/>
                  <a:pt x="797" y="2042"/>
                  <a:pt x="752" y="2010"/>
                </a:cubicBezTo>
                <a:cubicBezTo>
                  <a:pt x="773" y="2007"/>
                  <a:pt x="802" y="2019"/>
                  <a:pt x="816" y="2002"/>
                </a:cubicBezTo>
                <a:cubicBezTo>
                  <a:pt x="827" y="1988"/>
                  <a:pt x="800" y="1951"/>
                  <a:pt x="800" y="1951"/>
                </a:cubicBezTo>
                <a:cubicBezTo>
                  <a:pt x="842" y="1940"/>
                  <a:pt x="883" y="1944"/>
                  <a:pt x="920" y="1918"/>
                </a:cubicBezTo>
                <a:cubicBezTo>
                  <a:pt x="925" y="1909"/>
                  <a:pt x="934" y="1902"/>
                  <a:pt x="936" y="1892"/>
                </a:cubicBezTo>
                <a:cubicBezTo>
                  <a:pt x="937" y="1884"/>
                  <a:pt x="930" y="1875"/>
                  <a:pt x="928" y="1867"/>
                </a:cubicBezTo>
                <a:cubicBezTo>
                  <a:pt x="925" y="1855"/>
                  <a:pt x="926" y="1843"/>
                  <a:pt x="920" y="1833"/>
                </a:cubicBezTo>
                <a:cubicBezTo>
                  <a:pt x="915" y="1825"/>
                  <a:pt x="904" y="1822"/>
                  <a:pt x="896" y="1816"/>
                </a:cubicBezTo>
                <a:cubicBezTo>
                  <a:pt x="859" y="1757"/>
                  <a:pt x="870" y="1699"/>
                  <a:pt x="936" y="1682"/>
                </a:cubicBezTo>
                <a:cubicBezTo>
                  <a:pt x="928" y="1676"/>
                  <a:pt x="917" y="1673"/>
                  <a:pt x="912" y="1665"/>
                </a:cubicBezTo>
                <a:cubicBezTo>
                  <a:pt x="905" y="1652"/>
                  <a:pt x="914" y="1633"/>
                  <a:pt x="904" y="1623"/>
                </a:cubicBezTo>
                <a:cubicBezTo>
                  <a:pt x="887" y="1605"/>
                  <a:pt x="861" y="1601"/>
                  <a:pt x="840" y="1589"/>
                </a:cubicBezTo>
                <a:cubicBezTo>
                  <a:pt x="825" y="1581"/>
                  <a:pt x="792" y="1572"/>
                  <a:pt x="792" y="1572"/>
                </a:cubicBezTo>
                <a:cubicBezTo>
                  <a:pt x="780" y="1535"/>
                  <a:pt x="742" y="1484"/>
                  <a:pt x="712" y="1463"/>
                </a:cubicBezTo>
                <a:cubicBezTo>
                  <a:pt x="695" y="1408"/>
                  <a:pt x="676" y="1406"/>
                  <a:pt x="624" y="1395"/>
                </a:cubicBezTo>
                <a:cubicBezTo>
                  <a:pt x="518" y="1339"/>
                  <a:pt x="651" y="1416"/>
                  <a:pt x="576" y="1353"/>
                </a:cubicBezTo>
                <a:cubicBezTo>
                  <a:pt x="553" y="1334"/>
                  <a:pt x="488" y="1331"/>
                  <a:pt x="464" y="1328"/>
                </a:cubicBezTo>
                <a:cubicBezTo>
                  <a:pt x="371" y="1367"/>
                  <a:pt x="470" y="1316"/>
                  <a:pt x="400" y="1378"/>
                </a:cubicBezTo>
                <a:cubicBezTo>
                  <a:pt x="386" y="1390"/>
                  <a:pt x="367" y="1393"/>
                  <a:pt x="352" y="1404"/>
                </a:cubicBezTo>
                <a:cubicBezTo>
                  <a:pt x="207" y="1398"/>
                  <a:pt x="152" y="1409"/>
                  <a:pt x="40" y="1370"/>
                </a:cubicBezTo>
                <a:cubicBezTo>
                  <a:pt x="0" y="1306"/>
                  <a:pt x="7" y="1230"/>
                  <a:pt x="64" y="1185"/>
                </a:cubicBezTo>
                <a:cubicBezTo>
                  <a:pt x="100" y="1091"/>
                  <a:pt x="123" y="1055"/>
                  <a:pt x="216" y="1016"/>
                </a:cubicBezTo>
                <a:cubicBezTo>
                  <a:pt x="230" y="957"/>
                  <a:pt x="267" y="937"/>
                  <a:pt x="320" y="924"/>
                </a:cubicBezTo>
                <a:cubicBezTo>
                  <a:pt x="557" y="933"/>
                  <a:pt x="464" y="932"/>
                  <a:pt x="600" y="932"/>
                </a:cubicBezTo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916800" y="1700280"/>
            <a:ext cx="16426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东三省沦陷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333360"/>
            <a:ext cx="9143280" cy="6190560"/>
            <a:chOff x="0" y="333360"/>
            <a:chExt cx="9143280" cy="6190560"/>
          </a:xfrm>
        </p:grpSpPr>
        <p:pic>
          <p:nvPicPr>
            <p:cNvPr id="332" name="Picture 3" descr="日军残杀东北义勇军"/>
            <p:cNvPicPr/>
            <p:nvPr/>
          </p:nvPicPr>
          <p:blipFill>
            <a:blip r:embed="rId1"/>
            <a:stretch/>
          </p:blipFill>
          <p:spPr>
            <a:xfrm>
              <a:off x="0" y="333360"/>
              <a:ext cx="9143280" cy="61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Rectangle 4"/>
            <p:cNvSpPr/>
            <p:nvPr/>
          </p:nvSpPr>
          <p:spPr>
            <a:xfrm>
              <a:off x="1861920" y="5067720"/>
              <a:ext cx="237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日军残杀东北义勇军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4" name="Group 5"/>
          <p:cNvGrpSpPr/>
          <p:nvPr/>
        </p:nvGrpSpPr>
        <p:grpSpPr>
          <a:xfrm>
            <a:off x="0" y="333360"/>
            <a:ext cx="9144000" cy="6190920"/>
            <a:chOff x="0" y="333360"/>
            <a:chExt cx="9144000" cy="6190920"/>
          </a:xfrm>
        </p:grpSpPr>
        <p:pic>
          <p:nvPicPr>
            <p:cNvPr id="335" name="Picture 6" descr="日军虐杀中国平民"/>
            <p:cNvPicPr/>
            <p:nvPr/>
          </p:nvPicPr>
          <p:blipFill>
            <a:blip r:embed="rId2"/>
            <a:stretch/>
          </p:blipFill>
          <p:spPr>
            <a:xfrm>
              <a:off x="0" y="333360"/>
              <a:ext cx="9144000" cy="61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7"/>
            <p:cNvSpPr/>
            <p:nvPr/>
          </p:nvSpPr>
          <p:spPr>
            <a:xfrm>
              <a:off x="3060720" y="52138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日军虐杀中国平民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7" name="Group 8"/>
          <p:cNvGrpSpPr/>
          <p:nvPr/>
        </p:nvGrpSpPr>
        <p:grpSpPr>
          <a:xfrm>
            <a:off x="0" y="333360"/>
            <a:ext cx="9144000" cy="6191280"/>
            <a:chOff x="0" y="333360"/>
            <a:chExt cx="9144000" cy="6191280"/>
          </a:xfrm>
        </p:grpSpPr>
        <p:pic>
          <p:nvPicPr>
            <p:cNvPr id="338" name="Picture 9" descr="日军对中国平民的大屠杀"/>
            <p:cNvPicPr/>
            <p:nvPr/>
          </p:nvPicPr>
          <p:blipFill>
            <a:blip r:embed="rId3"/>
            <a:stretch/>
          </p:blipFill>
          <p:spPr>
            <a:xfrm>
              <a:off x="0" y="333360"/>
              <a:ext cx="9144000" cy="61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Rectangle 10"/>
            <p:cNvSpPr/>
            <p:nvPr/>
          </p:nvSpPr>
          <p:spPr>
            <a:xfrm>
              <a:off x="3954600" y="5484960"/>
              <a:ext cx="261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日军对中国平民大屠杀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0" name="Group 11"/>
          <p:cNvGrpSpPr/>
          <p:nvPr/>
        </p:nvGrpSpPr>
        <p:grpSpPr>
          <a:xfrm>
            <a:off x="0" y="333360"/>
            <a:ext cx="9143280" cy="6190200"/>
            <a:chOff x="0" y="333360"/>
            <a:chExt cx="9143280" cy="6190200"/>
          </a:xfrm>
        </p:grpSpPr>
        <p:pic>
          <p:nvPicPr>
            <p:cNvPr id="341" name="Picture 12" descr="这是辽宁铁岭龙尾山日军刺杀我幼童之后，集薪待焚。"/>
            <p:cNvPicPr/>
            <p:nvPr/>
          </p:nvPicPr>
          <p:blipFill>
            <a:blip r:embed="rId4"/>
            <a:stretch/>
          </p:blipFill>
          <p:spPr>
            <a:xfrm>
              <a:off x="0" y="333360"/>
              <a:ext cx="9143280" cy="61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13"/>
            <p:cNvSpPr/>
            <p:nvPr/>
          </p:nvSpPr>
          <p:spPr>
            <a:xfrm>
              <a:off x="1967400" y="4460400"/>
              <a:ext cx="709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刺杀幼童之后，集薪待焚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3" name="Group 14"/>
          <p:cNvGrpSpPr/>
          <p:nvPr/>
        </p:nvGrpSpPr>
        <p:grpSpPr>
          <a:xfrm>
            <a:off x="0" y="333360"/>
            <a:ext cx="9143280" cy="6190200"/>
            <a:chOff x="0" y="333360"/>
            <a:chExt cx="9143280" cy="6190200"/>
          </a:xfrm>
        </p:grpSpPr>
        <p:pic>
          <p:nvPicPr>
            <p:cNvPr id="344" name="Picture 15" descr="ryuj28"/>
            <p:cNvPicPr/>
            <p:nvPr/>
          </p:nvPicPr>
          <p:blipFill>
            <a:blip r:embed="rId5"/>
            <a:stretch/>
          </p:blipFill>
          <p:spPr>
            <a:xfrm>
              <a:off x="0" y="333360"/>
              <a:ext cx="9143280" cy="61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16"/>
            <p:cNvSpPr/>
            <p:nvPr/>
          </p:nvSpPr>
          <p:spPr>
            <a:xfrm>
              <a:off x="2111040" y="5144760"/>
              <a:ext cx="592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31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部队拿活人做试验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6" name="Group 17"/>
          <p:cNvGrpSpPr/>
          <p:nvPr/>
        </p:nvGrpSpPr>
        <p:grpSpPr>
          <a:xfrm>
            <a:off x="0" y="333360"/>
            <a:ext cx="9144000" cy="6191280"/>
            <a:chOff x="0" y="333360"/>
            <a:chExt cx="9144000" cy="6191280"/>
          </a:xfrm>
        </p:grpSpPr>
        <p:pic>
          <p:nvPicPr>
            <p:cNvPr id="347" name="Picture 18" descr="平頂山事件の発掘現場の再現　"/>
            <p:cNvPicPr/>
            <p:nvPr/>
          </p:nvPicPr>
          <p:blipFill>
            <a:blip r:embed="rId6"/>
            <a:stretch/>
          </p:blipFill>
          <p:spPr>
            <a:xfrm>
              <a:off x="0" y="333360"/>
              <a:ext cx="9144000" cy="61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19"/>
            <p:cNvSpPr/>
            <p:nvPr/>
          </p:nvSpPr>
          <p:spPr>
            <a:xfrm>
              <a:off x="2448000" y="5236560"/>
              <a:ext cx="428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活埋中国人的万人坑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9" name="WordArt 20"/>
          <p:cNvSpPr txBox="1"/>
          <p:nvPr/>
        </p:nvSpPr>
        <p:spPr>
          <a:xfrm>
            <a:off x="1692360" y="1123920"/>
            <a:ext cx="540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1c1c1c">
                      <a:alpha val="80000"/>
                    </a:srgbClr>
                  </a:outerShdw>
                </a:effectLst>
                <a:latin typeface="方正姚体"/>
              </a:rPr>
              <a:t>日军在东北犯下滔天罪行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1c1c1c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pic>
        <p:nvPicPr>
          <p:cNvPr id="350" name="Song From A Secret Garden.mp3" descr=""/>
          <p:cNvPicPr/>
          <p:nvPr/>
        </p:nvPicPr>
        <p:blipFill>
          <a:blip r:embed="rId7"/>
          <a:stretch/>
        </p:blipFill>
        <p:spPr>
          <a:xfrm>
            <a:off x="73087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3000" fill="hold"/>
                                        <p:tgtEl>
                                          <p:spTgt spid="34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34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3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3000" fill="hold"/>
                                        <p:tgtEl>
                                          <p:spTgt spid="34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3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3000" fill="hold"/>
                                        <p:tgtEl>
                                          <p:spTgt spid="33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1000"/>
                            </p:stCondLst>
                            <p:childTnLst>
                              <p:par>
                                <p:cTn id="8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3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400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3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7000"/>
                            </p:stCondLst>
                            <p:childTnLst>
                              <p:par>
                                <p:cTn id="9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3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18780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971640" y="333360"/>
            <a:ext cx="7273800" cy="6120000"/>
            <a:chOff x="971640" y="333360"/>
            <a:chExt cx="7273800" cy="6120000"/>
          </a:xfrm>
        </p:grpSpPr>
        <p:pic>
          <p:nvPicPr>
            <p:cNvPr id="352" name="Picture 3" descr="九一八01"/>
            <p:cNvPicPr/>
            <p:nvPr/>
          </p:nvPicPr>
          <p:blipFill>
            <a:blip r:embed="rId1">
              <a:lum contrast="24000"/>
            </a:blip>
            <a:srcRect l="2749" t="2203" r="2749" b="3690"/>
            <a:stretch/>
          </p:blipFill>
          <p:spPr>
            <a:xfrm>
              <a:off x="971640" y="333360"/>
              <a:ext cx="7273800" cy="61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4" descr="xinsrc_1720702020928968948484"/>
            <p:cNvPicPr/>
            <p:nvPr/>
          </p:nvPicPr>
          <p:blipFill>
            <a:blip r:embed="rId2"/>
            <a:stretch/>
          </p:blipFill>
          <p:spPr>
            <a:xfrm>
              <a:off x="6692760" y="404640"/>
              <a:ext cx="1479600" cy="151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Group 10"/>
          <p:cNvGrpSpPr/>
          <p:nvPr/>
        </p:nvGrpSpPr>
        <p:grpSpPr>
          <a:xfrm>
            <a:off x="3780000" y="620640"/>
            <a:ext cx="2447280" cy="1800360"/>
            <a:chOff x="3780000" y="620640"/>
            <a:chExt cx="2447280" cy="1800360"/>
          </a:xfrm>
        </p:grpSpPr>
        <p:pic>
          <p:nvPicPr>
            <p:cNvPr id="355" name="Picture 11" descr="u=10057103,1628870547&amp;fm=0&amp;gp=40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780000" y="620640"/>
              <a:ext cx="2447280" cy="180036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356" name="Rectangle 12"/>
            <p:cNvSpPr/>
            <p:nvPr/>
          </p:nvSpPr>
          <p:spPr>
            <a:xfrm>
              <a:off x="4522680" y="20005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00"/>
                  </a:solidFill>
                  <a:latin typeface="Arial"/>
                  <a:ea typeface="黑体"/>
                </a:rPr>
                <a:t>末代皇帝溥仪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WordArt 6"/>
          <p:cNvSpPr txBox="1"/>
          <p:nvPr/>
        </p:nvSpPr>
        <p:spPr>
          <a:xfrm>
            <a:off x="900000" y="2781360"/>
            <a:ext cx="73296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中国人民和中国共产党是怎样做的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1619280" y="4221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中国人民的局部抗战开始了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2" descr="图片2"/>
          <p:cNvPicPr/>
          <p:nvPr/>
        </p:nvPicPr>
        <p:blipFill>
          <a:blip r:embed="rId1"/>
          <a:srcRect l="0" t="4034" r="0" b="0"/>
          <a:stretch/>
        </p:blipFill>
        <p:spPr>
          <a:xfrm>
            <a:off x="826920" y="404640"/>
            <a:ext cx="7632720" cy="6120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yan"/>
          <p:cNvPicPr/>
          <p:nvPr/>
        </p:nvPicPr>
        <p:blipFill>
          <a:blip r:embed="rId2"/>
          <a:stretch/>
        </p:blipFill>
        <p:spPr>
          <a:xfrm>
            <a:off x="7308720" y="333360"/>
            <a:ext cx="1447920" cy="1066680"/>
          </a:xfrm>
          <a:prstGeom prst="rect">
            <a:avLst/>
          </a:prstGeom>
          <a:ln w="0">
            <a:noFill/>
          </a:ln>
        </p:spPr>
      </p:pic>
      <p:sp>
        <p:nvSpPr>
          <p:cNvPr id="363" name="Freeform 19"/>
          <p:cNvSpPr/>
          <p:nvPr/>
        </p:nvSpPr>
        <p:spPr>
          <a:xfrm>
            <a:off x="2120760" y="404640"/>
            <a:ext cx="6224760" cy="5850000"/>
          </a:xfrm>
          <a:custGeom>
            <a:avLst/>
            <a:gdLst>
              <a:gd name="textAreaLeft" fmla="*/ 0 w 6224760"/>
              <a:gd name="textAreaRight" fmla="*/ 6225120 w 6224760"/>
              <a:gd name="textAreaTop" fmla="*/ 0 h 5850000"/>
              <a:gd name="textAreaBottom" fmla="*/ 5850360 h 5850000"/>
            </a:gdLst>
            <a:ahLst/>
            <a:rect l="textAreaLeft" t="textAreaTop" r="textAreaRight" b="textAreaBottom"/>
            <a:pathLst>
              <a:path w="3921" h="3685">
                <a:moveTo>
                  <a:pt x="512" y="924"/>
                </a:moveTo>
                <a:cubicBezTo>
                  <a:pt x="573" y="918"/>
                  <a:pt x="597" y="917"/>
                  <a:pt x="655" y="894"/>
                </a:cubicBezTo>
                <a:cubicBezTo>
                  <a:pt x="673" y="886"/>
                  <a:pt x="696" y="866"/>
                  <a:pt x="704" y="848"/>
                </a:cubicBezTo>
                <a:cubicBezTo>
                  <a:pt x="715" y="822"/>
                  <a:pt x="788" y="822"/>
                  <a:pt x="792" y="822"/>
                </a:cubicBezTo>
                <a:cubicBezTo>
                  <a:pt x="828" y="785"/>
                  <a:pt x="842" y="716"/>
                  <a:pt x="784" y="696"/>
                </a:cubicBezTo>
                <a:cubicBezTo>
                  <a:pt x="748" y="639"/>
                  <a:pt x="786" y="647"/>
                  <a:pt x="824" y="620"/>
                </a:cubicBezTo>
                <a:cubicBezTo>
                  <a:pt x="843" y="561"/>
                  <a:pt x="815" y="630"/>
                  <a:pt x="864" y="578"/>
                </a:cubicBezTo>
                <a:cubicBezTo>
                  <a:pt x="870" y="572"/>
                  <a:pt x="867" y="560"/>
                  <a:pt x="872" y="553"/>
                </a:cubicBezTo>
                <a:cubicBezTo>
                  <a:pt x="891" y="523"/>
                  <a:pt x="922" y="513"/>
                  <a:pt x="952" y="502"/>
                </a:cubicBezTo>
                <a:cubicBezTo>
                  <a:pt x="973" y="435"/>
                  <a:pt x="941" y="514"/>
                  <a:pt x="984" y="469"/>
                </a:cubicBezTo>
                <a:cubicBezTo>
                  <a:pt x="1005" y="446"/>
                  <a:pt x="990" y="413"/>
                  <a:pt x="1032" y="393"/>
                </a:cubicBezTo>
                <a:cubicBezTo>
                  <a:pt x="1055" y="382"/>
                  <a:pt x="1080" y="376"/>
                  <a:pt x="1104" y="368"/>
                </a:cubicBezTo>
                <a:cubicBezTo>
                  <a:pt x="1112" y="364"/>
                  <a:pt x="1128" y="359"/>
                  <a:pt x="1128" y="359"/>
                </a:cubicBezTo>
                <a:cubicBezTo>
                  <a:pt x="1107" y="293"/>
                  <a:pt x="1099" y="279"/>
                  <a:pt x="1032" y="258"/>
                </a:cubicBezTo>
                <a:cubicBezTo>
                  <a:pt x="1016" y="253"/>
                  <a:pt x="1000" y="246"/>
                  <a:pt x="984" y="241"/>
                </a:cubicBezTo>
                <a:cubicBezTo>
                  <a:pt x="976" y="238"/>
                  <a:pt x="960" y="233"/>
                  <a:pt x="960" y="233"/>
                </a:cubicBezTo>
                <a:cubicBezTo>
                  <a:pt x="957" y="221"/>
                  <a:pt x="955" y="211"/>
                  <a:pt x="952" y="199"/>
                </a:cubicBezTo>
                <a:cubicBezTo>
                  <a:pt x="950" y="191"/>
                  <a:pt x="941" y="182"/>
                  <a:pt x="944" y="174"/>
                </a:cubicBezTo>
                <a:cubicBezTo>
                  <a:pt x="950" y="157"/>
                  <a:pt x="1014" y="138"/>
                  <a:pt x="1032" y="132"/>
                </a:cubicBezTo>
                <a:cubicBezTo>
                  <a:pt x="1128" y="31"/>
                  <a:pt x="1214" y="44"/>
                  <a:pt x="1361" y="39"/>
                </a:cubicBezTo>
                <a:cubicBezTo>
                  <a:pt x="1462" y="0"/>
                  <a:pt x="1556" y="37"/>
                  <a:pt x="1645" y="29"/>
                </a:cubicBezTo>
                <a:cubicBezTo>
                  <a:pt x="1683" y="34"/>
                  <a:pt x="1721" y="25"/>
                  <a:pt x="1752" y="47"/>
                </a:cubicBezTo>
                <a:cubicBezTo>
                  <a:pt x="1778" y="66"/>
                  <a:pt x="1863" y="69"/>
                  <a:pt x="1901" y="97"/>
                </a:cubicBezTo>
                <a:cubicBezTo>
                  <a:pt x="2038" y="222"/>
                  <a:pt x="1888" y="147"/>
                  <a:pt x="2001" y="164"/>
                </a:cubicBezTo>
                <a:cubicBezTo>
                  <a:pt x="2012" y="170"/>
                  <a:pt x="2037" y="237"/>
                  <a:pt x="2048" y="241"/>
                </a:cubicBezTo>
                <a:cubicBezTo>
                  <a:pt x="2058" y="245"/>
                  <a:pt x="2071" y="242"/>
                  <a:pt x="2080" y="250"/>
                </a:cubicBezTo>
                <a:cubicBezTo>
                  <a:pt x="2087" y="255"/>
                  <a:pt x="2085" y="266"/>
                  <a:pt x="2088" y="275"/>
                </a:cubicBezTo>
                <a:cubicBezTo>
                  <a:pt x="2100" y="304"/>
                  <a:pt x="2111" y="333"/>
                  <a:pt x="2128" y="359"/>
                </a:cubicBezTo>
                <a:cubicBezTo>
                  <a:pt x="2134" y="401"/>
                  <a:pt x="2143" y="457"/>
                  <a:pt x="2168" y="494"/>
                </a:cubicBezTo>
                <a:cubicBezTo>
                  <a:pt x="2180" y="512"/>
                  <a:pt x="2201" y="520"/>
                  <a:pt x="2216" y="536"/>
                </a:cubicBezTo>
                <a:cubicBezTo>
                  <a:pt x="2245" y="629"/>
                  <a:pt x="2199" y="489"/>
                  <a:pt x="2240" y="587"/>
                </a:cubicBezTo>
                <a:cubicBezTo>
                  <a:pt x="2268" y="653"/>
                  <a:pt x="2237" y="623"/>
                  <a:pt x="2280" y="654"/>
                </a:cubicBezTo>
                <a:cubicBezTo>
                  <a:pt x="2277" y="662"/>
                  <a:pt x="2269" y="671"/>
                  <a:pt x="2272" y="679"/>
                </a:cubicBezTo>
                <a:cubicBezTo>
                  <a:pt x="2276" y="689"/>
                  <a:pt x="2290" y="688"/>
                  <a:pt x="2296" y="696"/>
                </a:cubicBezTo>
                <a:cubicBezTo>
                  <a:pt x="2314" y="723"/>
                  <a:pt x="2318" y="760"/>
                  <a:pt x="2336" y="789"/>
                </a:cubicBezTo>
                <a:cubicBezTo>
                  <a:pt x="2344" y="829"/>
                  <a:pt x="2351" y="854"/>
                  <a:pt x="2368" y="890"/>
                </a:cubicBezTo>
                <a:cubicBezTo>
                  <a:pt x="2422" y="871"/>
                  <a:pt x="2522" y="968"/>
                  <a:pt x="2577" y="973"/>
                </a:cubicBezTo>
                <a:cubicBezTo>
                  <a:pt x="2679" y="937"/>
                  <a:pt x="2777" y="1010"/>
                  <a:pt x="2879" y="1040"/>
                </a:cubicBezTo>
                <a:cubicBezTo>
                  <a:pt x="2896" y="1111"/>
                  <a:pt x="2868" y="980"/>
                  <a:pt x="2915" y="1040"/>
                </a:cubicBezTo>
                <a:cubicBezTo>
                  <a:pt x="2962" y="1100"/>
                  <a:pt x="2876" y="968"/>
                  <a:pt x="2960" y="1041"/>
                </a:cubicBezTo>
                <a:cubicBezTo>
                  <a:pt x="2974" y="1053"/>
                  <a:pt x="2992" y="1146"/>
                  <a:pt x="3007" y="1156"/>
                </a:cubicBezTo>
                <a:cubicBezTo>
                  <a:pt x="3050" y="1248"/>
                  <a:pt x="3033" y="1323"/>
                  <a:pt x="3144" y="1362"/>
                </a:cubicBezTo>
                <a:cubicBezTo>
                  <a:pt x="3325" y="1340"/>
                  <a:pt x="3231" y="1296"/>
                  <a:pt x="3482" y="1291"/>
                </a:cubicBezTo>
                <a:cubicBezTo>
                  <a:pt x="3490" y="1288"/>
                  <a:pt x="3522" y="1219"/>
                  <a:pt x="3528" y="1213"/>
                </a:cubicBezTo>
                <a:cubicBezTo>
                  <a:pt x="3532" y="1209"/>
                  <a:pt x="3638" y="1194"/>
                  <a:pt x="3638" y="1194"/>
                </a:cubicBezTo>
                <a:cubicBezTo>
                  <a:pt x="3653" y="1123"/>
                  <a:pt x="3663" y="1255"/>
                  <a:pt x="3688" y="1176"/>
                </a:cubicBezTo>
                <a:cubicBezTo>
                  <a:pt x="3698" y="1146"/>
                  <a:pt x="3729" y="1141"/>
                  <a:pt x="3752" y="1126"/>
                </a:cubicBezTo>
                <a:cubicBezTo>
                  <a:pt x="3774" y="1130"/>
                  <a:pt x="3841" y="1110"/>
                  <a:pt x="3857" y="1127"/>
                </a:cubicBezTo>
                <a:cubicBezTo>
                  <a:pt x="3921" y="1194"/>
                  <a:pt x="3818" y="1183"/>
                  <a:pt x="3872" y="1202"/>
                </a:cubicBezTo>
                <a:cubicBezTo>
                  <a:pt x="3880" y="1227"/>
                  <a:pt x="3891" y="1249"/>
                  <a:pt x="3872" y="1277"/>
                </a:cubicBezTo>
                <a:cubicBezTo>
                  <a:pt x="3861" y="1294"/>
                  <a:pt x="3834" y="1288"/>
                  <a:pt x="3816" y="1294"/>
                </a:cubicBezTo>
                <a:cubicBezTo>
                  <a:pt x="3797" y="1314"/>
                  <a:pt x="3768" y="1327"/>
                  <a:pt x="3760" y="1353"/>
                </a:cubicBezTo>
                <a:cubicBezTo>
                  <a:pt x="3757" y="1362"/>
                  <a:pt x="3758" y="1372"/>
                  <a:pt x="3752" y="1378"/>
                </a:cubicBezTo>
                <a:cubicBezTo>
                  <a:pt x="3744" y="1387"/>
                  <a:pt x="3731" y="1390"/>
                  <a:pt x="3720" y="1395"/>
                </a:cubicBezTo>
                <a:cubicBezTo>
                  <a:pt x="3715" y="1416"/>
                  <a:pt x="3701" y="1433"/>
                  <a:pt x="3696" y="1454"/>
                </a:cubicBezTo>
                <a:cubicBezTo>
                  <a:pt x="3690" y="1482"/>
                  <a:pt x="3761" y="1513"/>
                  <a:pt x="3757" y="1541"/>
                </a:cubicBezTo>
                <a:cubicBezTo>
                  <a:pt x="3749" y="1598"/>
                  <a:pt x="3666" y="1657"/>
                  <a:pt x="3656" y="1715"/>
                </a:cubicBezTo>
                <a:cubicBezTo>
                  <a:pt x="3651" y="1746"/>
                  <a:pt x="3633" y="1765"/>
                  <a:pt x="3616" y="1791"/>
                </a:cubicBezTo>
                <a:cubicBezTo>
                  <a:pt x="3611" y="1800"/>
                  <a:pt x="3600" y="1816"/>
                  <a:pt x="3600" y="1816"/>
                </a:cubicBezTo>
                <a:cubicBezTo>
                  <a:pt x="3615" y="1879"/>
                  <a:pt x="3610" y="1824"/>
                  <a:pt x="3592" y="1875"/>
                </a:cubicBezTo>
                <a:cubicBezTo>
                  <a:pt x="3577" y="1918"/>
                  <a:pt x="3588" y="1935"/>
                  <a:pt x="3544" y="1951"/>
                </a:cubicBezTo>
                <a:cubicBezTo>
                  <a:pt x="3531" y="1966"/>
                  <a:pt x="3566" y="2065"/>
                  <a:pt x="3555" y="2070"/>
                </a:cubicBezTo>
                <a:cubicBezTo>
                  <a:pt x="3540" y="2091"/>
                  <a:pt x="3488" y="2086"/>
                  <a:pt x="3455" y="2080"/>
                </a:cubicBezTo>
                <a:cubicBezTo>
                  <a:pt x="3445" y="2086"/>
                  <a:pt x="3354" y="1907"/>
                  <a:pt x="3354" y="2032"/>
                </a:cubicBezTo>
                <a:cubicBezTo>
                  <a:pt x="3290" y="1954"/>
                  <a:pt x="3252" y="2067"/>
                  <a:pt x="3199" y="2070"/>
                </a:cubicBezTo>
                <a:cubicBezTo>
                  <a:pt x="3154" y="2086"/>
                  <a:pt x="3233" y="2097"/>
                  <a:pt x="3208" y="2137"/>
                </a:cubicBezTo>
                <a:cubicBezTo>
                  <a:pt x="3199" y="2151"/>
                  <a:pt x="3235" y="2186"/>
                  <a:pt x="3235" y="2186"/>
                </a:cubicBezTo>
                <a:cubicBezTo>
                  <a:pt x="3230" y="2237"/>
                  <a:pt x="3260" y="2283"/>
                  <a:pt x="3245" y="2330"/>
                </a:cubicBezTo>
                <a:cubicBezTo>
                  <a:pt x="3260" y="2439"/>
                  <a:pt x="3262" y="2568"/>
                  <a:pt x="3144" y="2609"/>
                </a:cubicBezTo>
                <a:cubicBezTo>
                  <a:pt x="3120" y="2606"/>
                  <a:pt x="3007" y="2590"/>
                  <a:pt x="3034" y="2600"/>
                </a:cubicBezTo>
                <a:cubicBezTo>
                  <a:pt x="3001" y="2588"/>
                  <a:pt x="2993" y="2618"/>
                  <a:pt x="2976" y="2591"/>
                </a:cubicBezTo>
                <a:cubicBezTo>
                  <a:pt x="2962" y="2635"/>
                  <a:pt x="2956" y="2684"/>
                  <a:pt x="2920" y="2709"/>
                </a:cubicBezTo>
                <a:cubicBezTo>
                  <a:pt x="2845" y="2827"/>
                  <a:pt x="2791" y="2802"/>
                  <a:pt x="2648" y="2811"/>
                </a:cubicBezTo>
                <a:cubicBezTo>
                  <a:pt x="2643" y="2813"/>
                  <a:pt x="2596" y="2823"/>
                  <a:pt x="2608" y="2844"/>
                </a:cubicBezTo>
                <a:cubicBezTo>
                  <a:pt x="2618" y="2862"/>
                  <a:pt x="2656" y="2878"/>
                  <a:pt x="2656" y="2878"/>
                </a:cubicBezTo>
                <a:cubicBezTo>
                  <a:pt x="2653" y="2923"/>
                  <a:pt x="2608" y="2945"/>
                  <a:pt x="2577" y="2976"/>
                </a:cubicBezTo>
                <a:cubicBezTo>
                  <a:pt x="2546" y="3006"/>
                  <a:pt x="2460" y="2978"/>
                  <a:pt x="2416" y="2962"/>
                </a:cubicBezTo>
                <a:cubicBezTo>
                  <a:pt x="2400" y="2937"/>
                  <a:pt x="2392" y="2912"/>
                  <a:pt x="2376" y="2886"/>
                </a:cubicBezTo>
                <a:cubicBezTo>
                  <a:pt x="2343" y="2899"/>
                  <a:pt x="2327" y="3018"/>
                  <a:pt x="2266" y="3072"/>
                </a:cubicBezTo>
                <a:cubicBezTo>
                  <a:pt x="2205" y="3125"/>
                  <a:pt x="2083" y="3166"/>
                  <a:pt x="2010" y="3206"/>
                </a:cubicBezTo>
                <a:cubicBezTo>
                  <a:pt x="1915" y="3273"/>
                  <a:pt x="1920" y="3271"/>
                  <a:pt x="1827" y="3313"/>
                </a:cubicBezTo>
                <a:cubicBezTo>
                  <a:pt x="1739" y="3360"/>
                  <a:pt x="1574" y="3445"/>
                  <a:pt x="1481" y="3489"/>
                </a:cubicBezTo>
                <a:cubicBezTo>
                  <a:pt x="1389" y="3528"/>
                  <a:pt x="1334" y="3546"/>
                  <a:pt x="1269" y="3577"/>
                </a:cubicBezTo>
                <a:cubicBezTo>
                  <a:pt x="1204" y="3608"/>
                  <a:pt x="1111" y="3685"/>
                  <a:pt x="1093" y="3673"/>
                </a:cubicBezTo>
                <a:cubicBezTo>
                  <a:pt x="1075" y="3661"/>
                  <a:pt x="1134" y="3564"/>
                  <a:pt x="1160" y="3504"/>
                </a:cubicBezTo>
                <a:cubicBezTo>
                  <a:pt x="1186" y="3444"/>
                  <a:pt x="1219" y="3361"/>
                  <a:pt x="1251" y="3313"/>
                </a:cubicBezTo>
                <a:cubicBezTo>
                  <a:pt x="1283" y="3264"/>
                  <a:pt x="1350" y="3241"/>
                  <a:pt x="1352" y="3216"/>
                </a:cubicBezTo>
                <a:cubicBezTo>
                  <a:pt x="1354" y="3191"/>
                  <a:pt x="1361" y="3136"/>
                  <a:pt x="1261" y="3158"/>
                </a:cubicBezTo>
                <a:cubicBezTo>
                  <a:pt x="1161" y="3180"/>
                  <a:pt x="834" y="3329"/>
                  <a:pt x="749" y="3351"/>
                </a:cubicBezTo>
                <a:cubicBezTo>
                  <a:pt x="666" y="3374"/>
                  <a:pt x="729" y="3320"/>
                  <a:pt x="749" y="3293"/>
                </a:cubicBezTo>
                <a:cubicBezTo>
                  <a:pt x="769" y="3265"/>
                  <a:pt x="814" y="3233"/>
                  <a:pt x="867" y="3188"/>
                </a:cubicBezTo>
                <a:cubicBezTo>
                  <a:pt x="920" y="3142"/>
                  <a:pt x="1025" y="3072"/>
                  <a:pt x="1069" y="3023"/>
                </a:cubicBezTo>
                <a:cubicBezTo>
                  <a:pt x="1113" y="2975"/>
                  <a:pt x="1100" y="2917"/>
                  <a:pt x="1133" y="2898"/>
                </a:cubicBezTo>
                <a:cubicBezTo>
                  <a:pt x="1166" y="2879"/>
                  <a:pt x="1223" y="2934"/>
                  <a:pt x="1270" y="2908"/>
                </a:cubicBezTo>
                <a:cubicBezTo>
                  <a:pt x="1317" y="2883"/>
                  <a:pt x="1404" y="2772"/>
                  <a:pt x="1416" y="2744"/>
                </a:cubicBezTo>
                <a:cubicBezTo>
                  <a:pt x="1428" y="2710"/>
                  <a:pt x="1372" y="2760"/>
                  <a:pt x="1343" y="2744"/>
                </a:cubicBezTo>
                <a:cubicBezTo>
                  <a:pt x="1308" y="2740"/>
                  <a:pt x="1215" y="2743"/>
                  <a:pt x="1206" y="2716"/>
                </a:cubicBezTo>
                <a:cubicBezTo>
                  <a:pt x="1208" y="2702"/>
                  <a:pt x="1279" y="2597"/>
                  <a:pt x="1288" y="2581"/>
                </a:cubicBezTo>
                <a:cubicBezTo>
                  <a:pt x="1300" y="2544"/>
                  <a:pt x="1228" y="2567"/>
                  <a:pt x="1224" y="2542"/>
                </a:cubicBezTo>
                <a:cubicBezTo>
                  <a:pt x="1220" y="2517"/>
                  <a:pt x="1259" y="2462"/>
                  <a:pt x="1264" y="2431"/>
                </a:cubicBezTo>
                <a:cubicBezTo>
                  <a:pt x="1261" y="2406"/>
                  <a:pt x="1269" y="2377"/>
                  <a:pt x="1256" y="2356"/>
                </a:cubicBezTo>
                <a:cubicBezTo>
                  <a:pt x="1247" y="2341"/>
                  <a:pt x="1208" y="2339"/>
                  <a:pt x="1208" y="2339"/>
                </a:cubicBezTo>
                <a:cubicBezTo>
                  <a:pt x="1181" y="2297"/>
                  <a:pt x="1191" y="2265"/>
                  <a:pt x="1152" y="2238"/>
                </a:cubicBezTo>
                <a:cubicBezTo>
                  <a:pt x="1106" y="2165"/>
                  <a:pt x="1161" y="2257"/>
                  <a:pt x="1128" y="2187"/>
                </a:cubicBezTo>
                <a:cubicBezTo>
                  <a:pt x="1113" y="2156"/>
                  <a:pt x="1055" y="2091"/>
                  <a:pt x="1024" y="2069"/>
                </a:cubicBezTo>
                <a:cubicBezTo>
                  <a:pt x="1019" y="2061"/>
                  <a:pt x="1017" y="2046"/>
                  <a:pt x="1008" y="2044"/>
                </a:cubicBezTo>
                <a:cubicBezTo>
                  <a:pt x="984" y="2038"/>
                  <a:pt x="929" y="2063"/>
                  <a:pt x="904" y="2069"/>
                </a:cubicBezTo>
                <a:cubicBezTo>
                  <a:pt x="852" y="2056"/>
                  <a:pt x="797" y="2042"/>
                  <a:pt x="752" y="2010"/>
                </a:cubicBezTo>
                <a:cubicBezTo>
                  <a:pt x="773" y="2007"/>
                  <a:pt x="802" y="2019"/>
                  <a:pt x="816" y="2002"/>
                </a:cubicBezTo>
                <a:cubicBezTo>
                  <a:pt x="827" y="1988"/>
                  <a:pt x="800" y="1951"/>
                  <a:pt x="800" y="1951"/>
                </a:cubicBezTo>
                <a:cubicBezTo>
                  <a:pt x="842" y="1940"/>
                  <a:pt x="883" y="1944"/>
                  <a:pt x="920" y="1918"/>
                </a:cubicBezTo>
                <a:cubicBezTo>
                  <a:pt x="925" y="1909"/>
                  <a:pt x="934" y="1902"/>
                  <a:pt x="936" y="1892"/>
                </a:cubicBezTo>
                <a:cubicBezTo>
                  <a:pt x="937" y="1884"/>
                  <a:pt x="930" y="1875"/>
                  <a:pt x="928" y="1867"/>
                </a:cubicBezTo>
                <a:cubicBezTo>
                  <a:pt x="925" y="1855"/>
                  <a:pt x="926" y="1843"/>
                  <a:pt x="920" y="1833"/>
                </a:cubicBezTo>
                <a:cubicBezTo>
                  <a:pt x="915" y="1825"/>
                  <a:pt x="904" y="1822"/>
                  <a:pt x="896" y="1816"/>
                </a:cubicBezTo>
                <a:cubicBezTo>
                  <a:pt x="859" y="1757"/>
                  <a:pt x="870" y="1699"/>
                  <a:pt x="936" y="1682"/>
                </a:cubicBezTo>
                <a:cubicBezTo>
                  <a:pt x="928" y="1676"/>
                  <a:pt x="917" y="1673"/>
                  <a:pt x="912" y="1665"/>
                </a:cubicBezTo>
                <a:cubicBezTo>
                  <a:pt x="905" y="1652"/>
                  <a:pt x="914" y="1633"/>
                  <a:pt x="904" y="1623"/>
                </a:cubicBezTo>
                <a:cubicBezTo>
                  <a:pt x="887" y="1605"/>
                  <a:pt x="861" y="1601"/>
                  <a:pt x="840" y="1589"/>
                </a:cubicBezTo>
                <a:cubicBezTo>
                  <a:pt x="825" y="1581"/>
                  <a:pt x="792" y="1572"/>
                  <a:pt x="792" y="1572"/>
                </a:cubicBezTo>
                <a:cubicBezTo>
                  <a:pt x="780" y="1535"/>
                  <a:pt x="742" y="1484"/>
                  <a:pt x="712" y="1463"/>
                </a:cubicBezTo>
                <a:cubicBezTo>
                  <a:pt x="695" y="1408"/>
                  <a:pt x="676" y="1406"/>
                  <a:pt x="624" y="1395"/>
                </a:cubicBezTo>
                <a:cubicBezTo>
                  <a:pt x="518" y="1339"/>
                  <a:pt x="651" y="1416"/>
                  <a:pt x="576" y="1353"/>
                </a:cubicBezTo>
                <a:cubicBezTo>
                  <a:pt x="553" y="1334"/>
                  <a:pt x="488" y="1331"/>
                  <a:pt x="464" y="1328"/>
                </a:cubicBezTo>
                <a:cubicBezTo>
                  <a:pt x="371" y="1367"/>
                  <a:pt x="470" y="1316"/>
                  <a:pt x="400" y="1378"/>
                </a:cubicBezTo>
                <a:cubicBezTo>
                  <a:pt x="386" y="1390"/>
                  <a:pt x="367" y="1393"/>
                  <a:pt x="352" y="1404"/>
                </a:cubicBezTo>
                <a:cubicBezTo>
                  <a:pt x="207" y="1398"/>
                  <a:pt x="152" y="1409"/>
                  <a:pt x="40" y="1370"/>
                </a:cubicBezTo>
                <a:cubicBezTo>
                  <a:pt x="0" y="1306"/>
                  <a:pt x="7" y="1230"/>
                  <a:pt x="64" y="1185"/>
                </a:cubicBezTo>
                <a:cubicBezTo>
                  <a:pt x="100" y="1091"/>
                  <a:pt x="123" y="1055"/>
                  <a:pt x="216" y="1016"/>
                </a:cubicBezTo>
                <a:cubicBezTo>
                  <a:pt x="230" y="957"/>
                  <a:pt x="267" y="937"/>
                  <a:pt x="320" y="924"/>
                </a:cubicBezTo>
                <a:cubicBezTo>
                  <a:pt x="557" y="933"/>
                  <a:pt x="464" y="932"/>
                  <a:pt x="600" y="932"/>
                </a:cubicBezTo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20"/>
          <p:cNvSpPr/>
          <p:nvPr/>
        </p:nvSpPr>
        <p:spPr>
          <a:xfrm>
            <a:off x="3916800" y="1700280"/>
            <a:ext cx="16426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东三省沦陷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Group 10"/>
          <p:cNvGrpSpPr/>
          <p:nvPr/>
        </p:nvGrpSpPr>
        <p:grpSpPr>
          <a:xfrm>
            <a:off x="2007720" y="3907080"/>
            <a:ext cx="2669040" cy="1896120"/>
            <a:chOff x="2007720" y="3907080"/>
            <a:chExt cx="2669040" cy="1896120"/>
          </a:xfrm>
        </p:grpSpPr>
        <p:sp>
          <p:nvSpPr>
            <p:cNvPr id="366" name="Freeform 11"/>
            <p:cNvSpPr/>
            <p:nvPr/>
          </p:nvSpPr>
          <p:spPr>
            <a:xfrm rot="21000000">
              <a:off x="2050920" y="4076280"/>
              <a:ext cx="2010600" cy="675360"/>
            </a:xfrm>
            <a:custGeom>
              <a:avLst/>
              <a:gdLst/>
              <a:ahLst/>
              <a:rect l="l" t="t" r="r" b="b"/>
              <a:pathLst>
                <a:path w="862" h="408">
                  <a:moveTo>
                    <a:pt x="816" y="0"/>
                  </a:moveTo>
                  <a:lnTo>
                    <a:pt x="227" y="181"/>
                  </a:lnTo>
                  <a:lnTo>
                    <a:pt x="272" y="0"/>
                  </a:lnTo>
                  <a:lnTo>
                    <a:pt x="0" y="317"/>
                  </a:lnTo>
                  <a:lnTo>
                    <a:pt x="317" y="408"/>
                  </a:lnTo>
                  <a:lnTo>
                    <a:pt x="227" y="317"/>
                  </a:lnTo>
                  <a:lnTo>
                    <a:pt x="862" y="317"/>
                  </a:lnTo>
                  <a:lnTo>
                    <a:pt x="81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 rot="20605800">
              <a:off x="3007440" y="4592520"/>
              <a:ext cx="1557360" cy="1009080"/>
            </a:xfrm>
            <a:custGeom>
              <a:avLst/>
              <a:gdLst/>
              <a:ahLst/>
              <a:rect l="l" t="t" r="r" b="b"/>
              <a:pathLst>
                <a:path w="590" h="590">
                  <a:moveTo>
                    <a:pt x="454" y="0"/>
                  </a:moveTo>
                  <a:lnTo>
                    <a:pt x="182" y="363"/>
                  </a:lnTo>
                  <a:lnTo>
                    <a:pt x="182" y="137"/>
                  </a:lnTo>
                  <a:lnTo>
                    <a:pt x="0" y="590"/>
                  </a:lnTo>
                  <a:lnTo>
                    <a:pt x="363" y="545"/>
                  </a:lnTo>
                  <a:lnTo>
                    <a:pt x="227" y="454"/>
                  </a:lnTo>
                  <a:lnTo>
                    <a:pt x="590" y="182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" name="AutoShape 13"/>
          <p:cNvSpPr/>
          <p:nvPr/>
        </p:nvSpPr>
        <p:spPr>
          <a:xfrm>
            <a:off x="755640" y="4343400"/>
            <a:ext cx="2743200" cy="25146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1116000" y="5300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华北危急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50:55Z</dcterms:created>
  <dc:creator>user</dc:creator>
  <dc:description/>
  <dc:language>en-US</dc:language>
  <cp:lastModifiedBy>Administrator</cp:lastModifiedBy>
  <dcterms:modified xsi:type="dcterms:W3CDTF">2014-11-27T00:36:46Z</dcterms:modified>
  <cp:revision>283</cp:revision>
  <dc:subject/>
  <dc:title>幻灯片 1</dc:title>
</cp:coreProperties>
</file>